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52B6-E492-417D-A8B1-C5F5BB53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A0B-32AF-477C-8C64-12DC6D4F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541A5-EA35-4097-8B13-10372A50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A7524-7104-4792-AC92-E68F3805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968EA-0832-4409-977C-E7A3B169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99DBA-041A-40F4-BB35-C76410A9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9BB17-C5E3-450D-9C52-822F6E99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E56EC-003C-4A52-8313-3655EC15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82A2C-AFC0-461F-9F32-8917105A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8E579-C376-4AE4-87AB-57A91C18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51552-0A05-4E95-9864-9E65B90B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3CD15-4082-43E1-9E98-DF5A6B2C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85C-D13B-4B0D-B3E7-379E2C6A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8EC89-6C55-49EB-A408-61B44955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BB2DE-9935-42CE-B71E-CC26426A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AEA09-0DCF-4B60-B896-219F3D03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6898E-9FB9-4183-B5A5-ADCE9F67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C42E2-2F92-47A4-AC5D-341661CE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00420-BDAD-4EA5-ADFD-9BAEE55A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AD266-2075-44AF-8199-57068C6E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66069-B461-4C2B-86C4-05ED4FA8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F1DFA-B109-49E8-B43C-50D6F5CE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04774-8196-4DD1-AC71-C13973A1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E6F-2D34-45F4-AF2B-ACC19DAD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35214-5C00-4B78-A2C4-758BBC65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79B28-A1F6-4C1D-8FD2-BB2E8E21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76396-C4B9-43F3-8A86-7684C021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B4783-04D3-4483-9E38-B02E478C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9F3D5-234F-4C3D-AAA6-03883CD4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EE452-53AC-4168-A1BE-9073D5C3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FF8CB-3BD0-4DD4-A96C-A9136430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494BC-D541-47D0-A7D5-6C412B33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3180A-F690-413F-9898-6A705F09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4D4DE-8D11-4BBE-9E68-95CB82A0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1C26-520C-4FB9-8843-567C237D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C9FA3-4222-4634-A4AE-361C459D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97BA2-3497-4968-AD95-9A051E8F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6E6D5-17BF-4EB4-B4E4-9D0C98F6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44E0B-5A78-4A41-9C48-C526B331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C90C5-6955-488F-88D7-238945AB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CBD31-796B-4CDD-88AA-E6434F54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C6AF0-FA6D-4120-8AC6-1C364D57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B6C56-DE07-495F-B8F6-8ECAED02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A5093-6414-467C-8C91-BBFED68D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A609C-E589-42BA-8127-4183B048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F7D0-A2F6-4CC6-A640-F0FDBBEE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882CF-1078-419F-A86E-53DA9792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53795-854E-4DA6-9DA9-1B31C841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34C79-7FC1-4B78-9651-6211E1C8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EDA44-89D1-46E4-BE59-F761BE5C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3994C-0208-43A7-B8F2-5E11E998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DED81-D110-47F8-B612-E22A65DF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FD36E6-28F6-43EB-B195-684F680D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F2F20-1BA0-4698-8B65-9C91BF7A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0F1AA-2384-4BD8-ACCD-4EAB7E18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72D8CF-053F-4DA4-8BFB-EF57F954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B6FC-58B7-43BF-808D-2296F99D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A579DA-0E02-4351-AAC5-644B0C67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CB199-327E-4CB3-AE9B-5EEAB30C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5782D4-DD5B-48E5-8FA1-0CB94453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40988-891F-4780-BFBB-C63F47BB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AF39C-A01D-4F16-8540-EA23AE83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E4AE48-03DF-40E5-BA5E-B03E3BCE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0717B-9861-4691-8913-8177B5AE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A8E82-E050-4228-B02E-CA9451BC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478371-37D7-426D-B3F2-89CD8116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95BF7-7764-4E2E-B5F8-4B928A94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EF08-5122-4087-B6EF-4F75319A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7FBA98-48D7-442A-96F6-0CB326F3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861858-CFC5-4AF9-A579-B9F1922A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8AF14E-608C-4365-9F9E-3182FA32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DCE1BF-49E3-4C35-A87A-58A0F4EC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5A5EEF-ABB1-485F-840D-F4D9A07C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373A5D-6D22-481B-A420-D1DA6B28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34E0EC-FBF3-4FC5-9490-6F844316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A86633-F48A-4DB5-A40B-B41A4ECA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9825D5-8FAA-4E58-9C19-E4F21933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56491E-E7C7-490B-9D45-5238A4B4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8BC8-6D32-46B0-A145-15EEA33F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6ED58D-8BC3-4FE3-B5B5-13572994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92C5B9-310A-46E2-ABB3-B02A40C4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25645F-3870-42F4-B79D-D512A127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973C3C-21DA-4DBE-BCBF-DAB5E24E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6730DF-FD9D-4D58-94B9-D25A1C92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83066D-C4E2-42DF-A989-5FA838CF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315B4-4F85-4727-B9FF-65D6E873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8FBC14-C96D-490E-940F-47384B51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3AC1A1-153B-4602-B704-DE76D85F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2B522F-F162-4DAA-AC22-60506A74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4E61-E955-4930-A880-6574B05C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AB8B30-F325-481A-AD25-E3117492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3F411B-81F8-417B-9C83-56367309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49FCF-7231-437A-9922-F6A3861A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87111B-BED1-459C-BF82-476897A0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2A6A2B-4E97-4ACB-970D-0E154A03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427FF3-2188-4976-A3E7-F2BA3813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F72045-155F-47F7-8B2C-2A49DB56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5DAE85-FC86-4C32-AC01-84BD0F68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E730A9-D5FC-45B2-A620-39B65D68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D58469-37C7-495F-B2EE-41747AD6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16A9-48ED-4F6B-8355-629F98C7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DDA337-5D47-454D-B3DE-3D5497DC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F296F1-23CE-4ECB-B11F-39D78620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77B584-C908-4E8A-BBB5-60EA9EA6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D72E22-2B94-44D5-8D55-9812B4E7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C94C43-F058-4DC1-84C6-99745CFF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686329-4467-4445-9AFF-AEE9C177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2A5517-2A73-4571-A5C7-1CAC50EA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BDB4E2-285D-4D20-AF72-EE57B540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FC5DC1-CDE2-4BB6-9A40-5133E5AE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E7C6CC-84F2-4A6E-BB13-35EEF896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1E7-2365-414C-BDE8-E83D9977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2814-7B6F-4114-995A-E917216E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36F001-E960-410D-8D33-78F89472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405844-3E00-4897-8EFB-F592CD71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B93388-0900-4E55-94B4-4D501C64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C6E5C5-802C-4882-9F5B-A908FF8E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A4A7EF-0836-4170-91C2-FDDF67D7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233F8D-570C-402D-A189-FC71B2E9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7D8A83-F7E4-4EC7-A5CE-80CF888F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146748-AD0A-49D6-93DD-36D97002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EA3BA5-EA8A-4B5A-AE67-7D8AD504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87B17E-7B49-41B3-BEF6-97EBA310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71BD-ABBB-4F30-AFD7-95363733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8310FF-998B-4C0A-A7D5-A910F588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419795-8408-4FA1-B2BC-9918E032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EA902B-3284-4B2E-87CB-367F5330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5205A1-E323-4696-9D3D-586EEE8E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A85C32-6ACC-4A1C-A292-256910D9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AA949F-7C21-44DC-B11F-FF697021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5AA426-15B2-477B-96C0-BBFB8398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089F-14DB-4990-9776-38A7271A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D047-AA58-43A0-A86F-BAB617CD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73AF-8C6B-4E50-BDBC-3E11C797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561ED-1110-473F-A6A0-5E636E8B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31F8C-E8AB-41F6-A9B8-429D4545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C744D-2EEE-467B-B002-99C88C88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9014F-6320-4B94-8F1A-6FEE5149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447A2-C2D0-47D6-AD71-86C93C82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5CD0-0C41-4ABE-BB3D-EE019D97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07F21-B42B-477A-9E1A-1C6176F1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00677-9606-4BFE-A2BD-A2EAC524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8CB22-FF35-4588-AB5D-E5B246B4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10F1B-E732-4E8D-A224-BAD91982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F1D15-E738-433A-9BE4-486894EB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35DA6-E00B-4FCC-B55A-BD9F5685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98210-C963-46B9-87F6-89C7FEDE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040B1-FB5F-48A5-AFF6-D33A1FD2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51DDC-54D6-43D0-BF7C-95174405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D9BAB-C731-4106-9462-30F358FA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B5A-E78E-413E-9F95-2E2A0AD7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05230-B609-42FF-816E-634ABF80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06C36-916E-4D23-96A4-EF4C2805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96C98-DE41-4D7C-A046-9C877CF5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B5410-594D-48C3-9384-6285B48C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C5C57-0FB9-4AFC-8A4B-07E7D456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E89B9-7935-4484-86C4-D96D5C95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D4650-2B8F-457F-B1BD-DFFAFA1A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DDE39-FE90-4E85-BFD7-2D769CAF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629DC-89C5-457F-A0A5-918F27AB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A4B2D-35D3-4D8C-9671-3C43551B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84D-3B9E-4672-8BDC-7E79BBD8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D7B0B-8251-4D5F-A43F-E2BC4791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91EAB-CF56-4860-BE9E-8C33F880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5E5AF-59B5-4B62-8F90-E7C4D8E5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505CB-978C-4666-80E7-01AF190F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73CC2-3321-4360-8008-89126554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42531-0F49-4101-A5F5-9E08ED9A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F053B-23E1-48B7-94ED-AECC5127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1DA8B-69EB-47E3-9D7E-F87B50AB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854D1-BE8A-40BF-8204-051D5DED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786AA-3B56-4F77-8E8C-5403AA09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1F2-D475-4B9A-B6C0-2D8443C4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5CE81-14AA-415F-BF37-ACCF3688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3A751-2DD0-426F-8FE4-A42730AE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4453C-1C2D-4A26-B260-6E80BB7A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94C3F-C903-48DC-B498-2D3E8ACC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47FB0-D997-4514-A15D-86399938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218B7-39BF-4E7D-BCD5-0BC8D894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A8540-75D0-44A1-A0A8-77CEF97C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5C972-5153-4A60-BCA9-20A2E02A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13DFB-26DF-44C3-AB29-A790C42E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AF55E-731E-4186-A932-2C7E948A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0AC-BBF6-43B1-8CCB-8CFE620E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D03D0-C1A3-4F0A-A313-B8F3BE72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B9F8A-3579-4C81-8428-3AC8877F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9B254-6862-4A8C-ADC0-FF896A00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D1CE6-F5AB-441A-94F7-561817D4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4E87F-2AA1-4A06-A2DD-DFF25E93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0E768-4605-4FA5-9802-1B5D8E22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142F8-9C91-411F-9C46-67CD0151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5510E-932B-4D62-88CE-774D5871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8152E-DDE0-4312-B4FB-3C3646F7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5E7A9-3D93-42D8-8893-F493E370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3DB-0D00-4110-86A6-596DF731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56850-293D-41E7-806E-F9F3DA81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33592-6969-484E-9D06-F6F72589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12E56-2566-41DF-B775-70F31388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3C10E-7BEA-4097-B68B-EE41A228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CC0F6-83A3-4EC4-9A42-06B3C16D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9AD83-ED76-4C4D-82A4-34E50AE4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FCA5E-2109-407E-BA0E-CD5B8DAD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450C1-ED7D-44D6-B5EC-B7359F9B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E1CBC-1179-451E-9217-2193A070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89A09-5C97-43DF-8965-700068D6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AEC-0E4E-4FEE-AFAA-C966F6EC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88329-F309-44B4-A0E1-677ADB2D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C7FC5-5DE0-419C-B36C-F613B654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C3706-1FA3-4009-8DD1-F49CD4FF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93425-11A6-465F-98A5-0F47F658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893D7-4BAA-490F-9482-25AF8030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FA494-857E-4C11-A5A1-C21B6489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DFDF5-4667-4544-8AE6-C92DD524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BC65F-882C-4CF0-B6AC-EEE39746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55329-AA7D-4DEB-9EC3-5713A79E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E890D-FF82-49A2-ADE1-A87EE513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72C2-1347-4FB2-8276-F99DEC34314D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3E64-E53B-415B-9DD3-2FA7BE7A9640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9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1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2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3"/>
          </p:nvPr>
        </p:nvSpPr>
        <p:spPr>
          <a:xfrm>
            <a:off x="10729800" y="4711680"/>
            <a:ext cx="11541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97D7-6552-4453-AB60-97D11D0F59DE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7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9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10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10729800" y="4711680"/>
            <a:ext cx="11541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AD14-95F9-4F59-A9CA-7874A60B47BE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2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3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Box 15"/>
          <p:cNvSpPr/>
          <p:nvPr/>
        </p:nvSpPr>
        <p:spPr>
          <a:xfrm>
            <a:off x="584280" y="7477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Box 16"/>
          <p:cNvSpPr/>
          <p:nvPr/>
        </p:nvSpPr>
        <p:spPr>
          <a:xfrm>
            <a:off x="9663120" y="30337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7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8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9"/>
          </p:nvPr>
        </p:nvSpPr>
        <p:spPr>
          <a:xfrm>
            <a:off x="10729800" y="4709880"/>
            <a:ext cx="1154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70E4-96C3-4043-B8FC-AB9E1BB811BA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8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9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10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40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41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42"/>
          </p:nvPr>
        </p:nvSpPr>
        <p:spPr>
          <a:xfrm>
            <a:off x="10729800" y="4709880"/>
            <a:ext cx="1154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6861-861A-49E8-B78C-35EDCED3E452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3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4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5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2707-442B-488B-AD81-34A35443E6FD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4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5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16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17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6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47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48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A024-25AE-490E-A39A-0A886DEC16E1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8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9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9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50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51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5F39-1627-49E5-9F2B-83CC75C5AB0A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79" name="Rectangle 6"/>
          <p:cNvSpPr/>
          <p:nvPr/>
        </p:nvSpPr>
        <p:spPr>
          <a:xfrm rot="5400000">
            <a:off x="8115480" y="1869120"/>
            <a:ext cx="510696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Rectangle 7"/>
          <p:cNvSpPr/>
          <p:nvPr/>
        </p:nvSpPr>
        <p:spPr>
          <a:xfrm rot="5400000">
            <a:off x="9867240" y="5371920"/>
            <a:ext cx="1603440" cy="136836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2"/>
          </p:nvPr>
        </p:nvSpPr>
        <p:spPr>
          <a:xfrm>
            <a:off x="680724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3"/>
          </p:nvPr>
        </p:nvSpPr>
        <p:spPr>
          <a:xfrm>
            <a:off x="680760" y="5935680"/>
            <a:ext cx="612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54"/>
          </p:nvPr>
        </p:nvSpPr>
        <p:spPr>
          <a:xfrm>
            <a:off x="10098000" y="5398920"/>
            <a:ext cx="11541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2BA5-7F49-410E-AC29-F8F11975881E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896796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D-ShadowShort.png"/>
          <p:cNvPicPr/>
          <p:nvPr/>
        </p:nvPicPr>
        <p:blipFill>
          <a:blip r:embed="rId4"/>
          <a:stretch/>
        </p:blipFill>
        <p:spPr>
          <a:xfrm>
            <a:off x="9112320" y="4243320"/>
            <a:ext cx="307656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0" y="2590920"/>
            <a:ext cx="896796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9112320" y="2590920"/>
            <a:ext cx="307656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255240" y="2749680"/>
            <a:ext cx="11714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2677-126C-45CD-86CB-56366490A45E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6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90A9-C7D5-4CD0-A661-2A4F2F456A9F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D-ShadowLong.png"/>
          <p:cNvPicPr/>
          <p:nvPr/>
        </p:nvPicPr>
        <p:blipFill>
          <a:blip r:embed="rId3"/>
          <a:stretch/>
        </p:blipFill>
        <p:spPr>
          <a:xfrm>
            <a:off x="0" y="4086360"/>
            <a:ext cx="10437840" cy="322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HD-ShadowShort.png"/>
          <p:cNvPicPr/>
          <p:nvPr/>
        </p:nvPicPr>
        <p:blipFill>
          <a:blip r:embed="rId4"/>
          <a:stretch/>
        </p:blipFill>
        <p:spPr>
          <a:xfrm>
            <a:off x="10585440" y="408780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0" y="272556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0585440" y="272556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10729800" y="2869920"/>
            <a:ext cx="1154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7A74-89EC-481A-9CA9-B587B59772C1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DCDF-C716-4CF0-AD59-B2940FE70478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1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AD47-BD5F-40F7-89F3-2CB942466F49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7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F1C3-4C64-4395-BB45-5BF1F53B01B6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HD-ShadowShort.png"/>
          <p:cNvPicPr/>
          <p:nvPr/>
        </p:nvPicPr>
        <p:blipFill>
          <a:blip r:embed="rId3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83A5-5B7C-49C7-B84A-FB5E0848C621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6897-E7BF-4D51-B52B-F8302938997B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0" y="2882880"/>
            <a:ext cx="8825040" cy="137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Calibri"/>
                <a:ea typeface="Calibri"/>
              </a:rPr>
              <a:t>КОНТРОЛЬНИЙ ПЕРЕЛІК СПРИЯННЯ ЯКОСТІ ПРАВОСУДДЯ ТА ЯКОСТІ РОБОТИ СУДІВ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681120" y="4393800"/>
            <a:ext cx="8143920" cy="11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Д-р Пім Альберс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Експерт Програми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USAID 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“Нове правосуддя”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69" name="Rectangle 11"/>
          <p:cNvSpPr/>
          <p:nvPr/>
        </p:nvSpPr>
        <p:spPr>
          <a:xfrm>
            <a:off x="4645080" y="0"/>
            <a:ext cx="7551720" cy="685800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Picture 13" descr=""/>
          <p:cNvPicPr/>
          <p:nvPr/>
        </p:nvPicPr>
        <p:blipFill>
          <a:blip r:embed="rId2"/>
          <a:stretch/>
        </p:blipFill>
        <p:spPr>
          <a:xfrm>
            <a:off x="0" y="5005440"/>
            <a:ext cx="4965840" cy="14616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15"/>
          <p:cNvSpPr/>
          <p:nvPr/>
        </p:nvSpPr>
        <p:spPr>
          <a:xfrm>
            <a:off x="0" y="1838160"/>
            <a:ext cx="4964040" cy="318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0760" y="2063880"/>
            <a:ext cx="373860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rebuchet MS"/>
              </a:rPr>
              <a:t>Як збирати інформацію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5287680" y="659880"/>
            <a:ext cx="6257880" cy="550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Певні дані/інформацію можна збирати на національному рівні: Міністерство юстиції, Державна судова адміністрація, Вища рада правосуддя, Вища кваліфікаційна комісія суддів, Національна школа суддів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Інші дані/інформацію слід збирати на регіональному/обласному рівні: територіальні управління Державної судової адміністрації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Останній рівень збору даних: вибрані суди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Для кожного питання/теми в контрольному переліку слід запропонувати компетентний судовий орган або орган юстиції, який має збирати інформацію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rebuchet MS"/>
              </a:rPr>
              <a:t>Пропозиції щодо установ, які мають бути залучені до процесу збору даних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290520" y="2158920"/>
          <a:ext cx="6978600" cy="4554720"/>
        </p:xfrm>
        <a:graphic>
          <a:graphicData uri="http://schemas.openxmlformats.org/drawingml/2006/table">
            <a:tbl>
              <a:tblPr/>
              <a:tblGrid>
                <a:gridCol w="4133880"/>
                <a:gridCol w="1050840"/>
                <a:gridCol w="914400"/>
                <a:gridCol w="879480"/>
              </a:tblGrid>
              <a:tr h="244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V Доступ до правосудд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ржа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гі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у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</a:tr>
              <a:tr h="406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існує політика легкого доступу до інформації про суди? (наприклад, через веб-сайти)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2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408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є судові рішення загальнодоступними через базу даних он-лайн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2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існує політика інформування громадян про їхні законні права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доступна інформація про суд багатьма мовами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21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існує політика надання правової допомоги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існує система збору судового збору?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2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можна сплатити судовий збір он-лайн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2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є загальнодоступна інформація для громадян про те, де можна отримати правову допомогу та захист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можуть громадяни легко дістатися до суду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2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408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існує політика доступності суду для людей з обмеженими можливостями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40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існує політика безпеки та доступу до приміщень суду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2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408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існує політика підвищення якості та зрозумілості судових рішень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6" name=""/>
          <p:cNvGraphicFramePr/>
          <p:nvPr/>
        </p:nvGraphicFramePr>
        <p:xfrm>
          <a:off x="7645320" y="2340000"/>
          <a:ext cx="4249800" cy="2743200"/>
        </p:xfrm>
        <a:graphic>
          <a:graphicData uri="http://schemas.openxmlformats.org/drawingml/2006/table">
            <a:tbl>
              <a:tblPr/>
              <a:tblGrid>
                <a:gridCol w="568440"/>
                <a:gridCol w="3681360"/>
              </a:tblGrid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ні/інформація, яку мають збирати су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2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Інформація, яку мають збирати ТУ ДСА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</a:tr>
              <a:tr h="1646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ні/інформація, яку має збирати: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іністерство юстиції, Державна судова адміністрація, Вища рада правосуддя, Вища кваліфікаційна комісія суддів, Національна школа судд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11"/>
          <p:cNvSpPr/>
          <p:nvPr/>
        </p:nvSpPr>
        <p:spPr>
          <a:xfrm>
            <a:off x="11160" y="6210360"/>
            <a:ext cx="8967600" cy="27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Rectangle 13"/>
          <p:cNvSpPr/>
          <p:nvPr/>
        </p:nvSpPr>
        <p:spPr>
          <a:xfrm>
            <a:off x="9121680" y="6191280"/>
            <a:ext cx="3081600" cy="27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0" y="4557600"/>
            <a:ext cx="8978760" cy="1660680"/>
          </a:xfrm>
          <a:prstGeom prst="rect">
            <a:avLst/>
          </a:prstGeom>
          <a:solidFill>
            <a:srgbClr val="0d0d0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Rectangle 17"/>
          <p:cNvSpPr/>
          <p:nvPr/>
        </p:nvSpPr>
        <p:spPr>
          <a:xfrm>
            <a:off x="9121680" y="4557600"/>
            <a:ext cx="3078360" cy="16606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1120" y="4714920"/>
            <a:ext cx="81280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ffffff"/>
                </a:solidFill>
                <a:latin typeface="Trebuchet MS"/>
              </a:rPr>
              <a:t>Загальна інформація про контрольний перелік</a:t>
            </a:r>
            <a:endParaRPr b="0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642600" y="665280"/>
            <a:ext cx="8325000" cy="35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Це був перший документ, розроблений робочою групою з питань якості роботи (GT-QUAL) Європейської комісії з питань ефективності правосуддя Ради Європи у 2008 році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Цей інструмент розроблений для збору інформації та здійснення аналізу відповідних аспектів, пов'язаних із якістю правосуддя та роботи суду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На відміну від інших моделей якості роботи суду (як-от: системи судової досконалості), він зосереджується на трьох рівнях: національному рівні, рівні суду та рівні окремого судді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9"/>
          <p:cNvSpPr/>
          <p:nvPr/>
        </p:nvSpPr>
        <p:spPr>
          <a:xfrm>
            <a:off x="8785080" y="0"/>
            <a:ext cx="3407040" cy="685800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Picture 11" descr=""/>
          <p:cNvPicPr/>
          <p:nvPr/>
        </p:nvPicPr>
        <p:blipFill>
          <a:blip r:embed="rId1"/>
          <a:stretch/>
        </p:blipFill>
        <p:spPr>
          <a:xfrm>
            <a:off x="-324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13" descr=""/>
          <p:cNvPicPr/>
          <p:nvPr/>
        </p:nvPicPr>
        <p:blipFill>
          <a:blip r:embed="rId2"/>
          <a:stretch/>
        </p:blipFill>
        <p:spPr>
          <a:xfrm>
            <a:off x="0" y="1959120"/>
            <a:ext cx="9107640" cy="32040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15"/>
          <p:cNvSpPr/>
          <p:nvPr/>
        </p:nvSpPr>
        <p:spPr>
          <a:xfrm>
            <a:off x="0" y="609480"/>
            <a:ext cx="91076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7461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rebuchet MS"/>
              </a:rPr>
              <a:t>Попит і пропозиція як точка відліку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680760" y="2336400"/>
            <a:ext cx="74610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 u="sng">
                <a:solidFill>
                  <a:srgbClr val="ffffff"/>
                </a:solidFill>
                <a:uFillTx/>
                <a:latin typeface="Trebuchet MS"/>
              </a:rPr>
              <a:t>Пропозиція</a:t>
            </a:r>
            <a:r>
              <a:rPr b="0" lang="en-US" sz="1500" spc="-1" strike="noStrike" u="sng">
                <a:solidFill>
                  <a:srgbClr val="ffffff"/>
                </a:solidFill>
                <a:uFillTx/>
                <a:latin typeface="Trebuchet MS"/>
              </a:rPr>
              <a:t>: </a:t>
            </a:r>
            <a:r>
              <a:rPr b="0" lang="uk-UA" sz="1500" spc="-1" strike="noStrike">
                <a:solidFill>
                  <a:srgbClr val="ffffff"/>
                </a:solidFill>
                <a:latin typeface="Trebuchet MS"/>
              </a:rPr>
              <a:t>у центрі моделі – питання стратегії та політики, щоб наголосити на тому, що стратегічні, операційні плани та плани політики знаходяться в самому серці функціонування сектору правосуддя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Trebuchet MS"/>
              </a:rPr>
              <a:t>Кадрові ресурси також входять до моделі, оскільки належне функціонування судової системи залежить від якості роботи суддів, прокурорів і працівників суду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Trebuchet MS"/>
              </a:rPr>
              <a:t>Окрім кадрових ресурсів і стратегії/політики, модель зосереджується на ресурсах. Для забезпечення високого рівня якості роботи необхідно достатньо ресурсів (бюджет, ІТ, інфраструктура суду)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Trebuchet MS"/>
              </a:rPr>
              <a:t>Остання складова моделі стосується функціонування та процесів. Вона пов'язана з різними видами діяльності: від підготовки справ до написання проекту рішення та його виконання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 u="sng">
                <a:solidFill>
                  <a:srgbClr val="ffffff"/>
                </a:solidFill>
                <a:uFillTx/>
                <a:latin typeface="Trebuchet MS"/>
              </a:rPr>
              <a:t>Попит:</a:t>
            </a:r>
            <a:r>
              <a:rPr b="0" lang="uk-UA" sz="1500" spc="-1" strike="noStrike">
                <a:solidFill>
                  <a:srgbClr val="ffffff"/>
                </a:solidFill>
                <a:latin typeface="Trebuchet MS"/>
              </a:rPr>
              <a:t> модель наголошує на важливості врахування попиту (відвідувачів суду). Як і в багатьох моделях якості роботи, тут також є потреба в зосередженні на користувачах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8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0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1" name="Rectangle 12"/>
          <p:cNvSpPr/>
          <p:nvPr/>
        </p:nvSpPr>
        <p:spPr>
          <a:xfrm>
            <a:off x="4645080" y="0"/>
            <a:ext cx="7551720" cy="685800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Picture 14" descr=""/>
          <p:cNvPicPr/>
          <p:nvPr/>
        </p:nvPicPr>
        <p:blipFill>
          <a:blip r:embed="rId2"/>
          <a:stretch/>
        </p:blipFill>
        <p:spPr>
          <a:xfrm>
            <a:off x="0" y="5005440"/>
            <a:ext cx="4965840" cy="14616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16"/>
          <p:cNvSpPr/>
          <p:nvPr/>
        </p:nvSpPr>
        <p:spPr>
          <a:xfrm>
            <a:off x="0" y="1838160"/>
            <a:ext cx="4964040" cy="318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0760" y="2063880"/>
            <a:ext cx="373860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rebuchet MS"/>
              </a:rPr>
              <a:t>Модель контрольного переліку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5" name="Tijdelijke aanduiding voor inhoud 3" descr=""/>
          <p:cNvPicPr/>
          <p:nvPr/>
        </p:nvPicPr>
        <p:blipFill>
          <a:blip r:embed="rId3"/>
          <a:stretch/>
        </p:blipFill>
        <p:spPr>
          <a:xfrm>
            <a:off x="5284800" y="603360"/>
            <a:ext cx="6261120" cy="568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7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8" name="Rectangle 11"/>
          <p:cNvSpPr/>
          <p:nvPr/>
        </p:nvSpPr>
        <p:spPr>
          <a:xfrm>
            <a:off x="4645080" y="0"/>
            <a:ext cx="7551720" cy="685800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9" name="Picture 13" descr=""/>
          <p:cNvPicPr/>
          <p:nvPr/>
        </p:nvPicPr>
        <p:blipFill>
          <a:blip r:embed="rId2"/>
          <a:stretch/>
        </p:blipFill>
        <p:spPr>
          <a:xfrm>
            <a:off x="0" y="5005440"/>
            <a:ext cx="4965840" cy="146160"/>
          </a:xfrm>
          <a:prstGeom prst="rect">
            <a:avLst/>
          </a:prstGeom>
          <a:ln w="0">
            <a:noFill/>
          </a:ln>
        </p:spPr>
      </p:pic>
      <p:sp>
        <p:nvSpPr>
          <p:cNvPr id="850" name="Rectangle 15"/>
          <p:cNvSpPr/>
          <p:nvPr/>
        </p:nvSpPr>
        <p:spPr>
          <a:xfrm>
            <a:off x="0" y="1838160"/>
            <a:ext cx="4964040" cy="318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0760" y="2063880"/>
            <a:ext cx="396396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rebuchet MS"/>
              </a:rPr>
              <a:t>Використання контрольного переліку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5287680" y="659880"/>
            <a:ext cx="6257880" cy="550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Користувачі контрольного переліку можуть робити відмітки у відповідних комірках, щоб позначити, було охоплено це питання, чи ні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Якщо питання не було охоплено, контрольний перелік може допомогти організаціям в розробці нової політики, зміні існуючої та зосередженні на конкретних питаннях якості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Дійові особи: органи правосуддя на національному рівні, регіональному рівні, на рівні судів та окремих суддів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rebuchet MS"/>
              </a:rPr>
              <a:t>Зразок частини контрольного переліку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2314440" y="2092320"/>
          <a:ext cx="6863040" cy="4341960"/>
        </p:xfrm>
        <a:graphic>
          <a:graphicData uri="http://schemas.openxmlformats.org/drawingml/2006/table">
            <a:tbl>
              <a:tblPr/>
              <a:tblGrid>
                <a:gridCol w="3660840"/>
                <a:gridCol w="333360"/>
                <a:gridCol w="374760"/>
                <a:gridCol w="577800"/>
                <a:gridCol w="787320"/>
                <a:gridCol w="1128960"/>
              </a:tblGrid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ідвалини функціонування правосудд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у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удд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 застосов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 СТРАТЕГІЯ ТА ПОЛІ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І.1. Організація та полі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Чи є державний орган (Мін’юст чи Вища рада правосуддя), що відповідє за розробку стратегічної політики та її впровадження для судової влади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Чи існує законодавство, що підтримує суди чи організацію судів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Чи існує на конституційному рівні (або на найвищому рівні ієрархії правових норм)  гарантія захисту незалежності судової влади по відношенню до законодавчої та виконавчої гілок влади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 Чи  існує  політика, що стосується спеціалізації судів і суддів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Чи визначаються цілі (якості роботи) судів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 існують  стратегія та політика визначення потреб і планування ресурсів судів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Чи  існує  політика щодо структури та юрисдикції судів, включаючи політику щодо географічного розташування судів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rebuchet MS"/>
              </a:rPr>
              <a:t>Обмеження контрольного переліку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681120" y="2336400"/>
            <a:ext cx="79200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Trebuchet MS"/>
              </a:rPr>
              <a:t>Контрольний перелік охоплює надто багато питань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Trebuchet MS"/>
              </a:rPr>
              <a:t>Обмежене практичне використання для розробників політики, судів і суддів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Trebuchet MS"/>
              </a:rPr>
              <a:t>На застосовується в жодній з держав-членів Ради Європи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Trebuchet MS"/>
              </a:rPr>
              <a:t>Немає потреби включати рівень окремого судді до контрольного переліку, зосереджуючись на політиці, стратегії та управлінні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Trebuchet MS"/>
              </a:rPr>
              <a:t>Необхідно спростити контрольний перелік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Trebuchet MS"/>
              </a:rPr>
              <a:t>А також реорганізувати ключові питання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Trebuchet MS"/>
              </a:rPr>
              <a:t>Контрольний перелік може використовуватися для визначення браку політики в певних галузях та надання опису основних реформ, реалізованих у тому році, коли використовувався перелік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57" name="Afbeelding 3" descr=""/>
          <p:cNvPicPr/>
          <p:nvPr/>
        </p:nvPicPr>
        <p:blipFill>
          <a:blip r:embed="rId1"/>
          <a:stretch/>
        </p:blipFill>
        <p:spPr>
          <a:xfrm>
            <a:off x="8566200" y="2336760"/>
            <a:ext cx="345600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8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9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60" name="Rectangle 12"/>
          <p:cNvSpPr/>
          <p:nvPr/>
        </p:nvSpPr>
        <p:spPr>
          <a:xfrm>
            <a:off x="4645080" y="0"/>
            <a:ext cx="7551720" cy="685800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1" name="Picture 14" descr=""/>
          <p:cNvPicPr/>
          <p:nvPr/>
        </p:nvPicPr>
        <p:blipFill>
          <a:blip r:embed="rId2"/>
          <a:stretch/>
        </p:blipFill>
        <p:spPr>
          <a:xfrm>
            <a:off x="0" y="5005440"/>
            <a:ext cx="4965840" cy="14616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6"/>
          <p:cNvSpPr/>
          <p:nvPr/>
        </p:nvSpPr>
        <p:spPr>
          <a:xfrm>
            <a:off x="0" y="1838160"/>
            <a:ext cx="4964040" cy="318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0760" y="2063880"/>
            <a:ext cx="373860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rebuchet MS"/>
              </a:rPr>
              <a:t>Переглянута та спрощена модель контрольного переліку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4" name="Tijdelijke aanduiding voor inhoud 3" descr=""/>
          <p:cNvPicPr/>
          <p:nvPr/>
        </p:nvPicPr>
        <p:blipFill>
          <a:blip r:embed="rId3"/>
          <a:stretch/>
        </p:blipFill>
        <p:spPr>
          <a:xfrm>
            <a:off x="5224320" y="639720"/>
            <a:ext cx="6461280" cy="557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rebuchet MS"/>
              </a:rPr>
              <a:t>Новий зразок спрощеного контрольного переліку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382680" y="2043000"/>
          <a:ext cx="11318760" cy="4496040"/>
        </p:xfrm>
        <a:graphic>
          <a:graphicData uri="http://schemas.openxmlformats.org/drawingml/2006/table">
            <a:tbl>
              <a:tblPr/>
              <a:tblGrid>
                <a:gridCol w="6670440"/>
                <a:gridCol w="1833840"/>
                <a:gridCol w="1533240"/>
                <a:gridCol w="1281240"/>
              </a:tblGrid>
              <a:tr h="4557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. Стратегічні, (операційні) плани та полі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ержавний рів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егіональний рів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</a:tr>
              <a:tr h="75888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є державний орган (Мін’юст чи Вища рада правосуддя), що відповідає за розробку стратегічної політики та її впровадження для судової влади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</a:tr>
              <a:tr h="37944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 існує  політика, що стосується спеціалізації судів і суддів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</a:tr>
              <a:tr h="56988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 існує  політика планування та виконання бюджету судової влади та окремих судів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</a:tr>
              <a:tr h="56988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 існує  політика щодо географічного розташування судів та розподілу юрисдикції судів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</a:tr>
              <a:tr h="37944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розроблені для судової влади визначення місії та бачення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</a:tr>
              <a:tr h="22068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розроблена політика інновацій у судах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</a:tr>
              <a:tr h="56808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розробляють і виконують суди (річні) плани з чітко визначеними цілями якості роботи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</a:tr>
              <a:tr h="38124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 існує  політика розподілу справ між суддями у судах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</a:tr>
              <a:tr h="21348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вимірюється навантаження на окремих суддів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2T08:13:29Z</dcterms:created>
  <dc:creator>Pim Albers</dc:creator>
  <dc:description/>
  <dc:language>en-US</dc:language>
  <cp:lastModifiedBy>ignatchenko</cp:lastModifiedBy>
  <dcterms:modified xsi:type="dcterms:W3CDTF">2017-04-24T08:21:26Z</dcterms:modified>
  <cp:revision>26</cp:revision>
  <dc:subject/>
  <dc:title>Checklist for promoting quality of justice and courts</dc:title>
</cp:coreProperties>
</file>