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C13D-042A-476E-905E-1059E6D3D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B940-014A-4F39-ACFB-F683166B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D151E-83CF-47D1-A049-EAF4BFBA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0D233-50B8-4FE4-B47A-1E208497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9F86E-5442-4C98-B979-2565AA03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99037-52FF-4FB0-8643-55E7780F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333DD-CB36-40E5-9D4C-DF1925A3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8A2B1-895A-4B20-BA4F-DC4C7191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D232E-9774-4612-A244-5D02F886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3941E-4F80-4778-BCDD-BDBFD3C8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E085E-55A9-4C12-8BFF-16C51691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CCA26-B4CE-41FC-82D7-68E46659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6BE1-0C1B-474B-BB8A-29900CDD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B7017-84A4-464F-90CA-05E88E0D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09545-72BD-441B-8854-0B163CE0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309B2-B052-4B86-8535-9BC9AFB7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192B5-1A50-4120-9953-744C37D5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34FFC-F655-46D3-93AA-54E395F2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5CEC7-10A3-445D-A78F-8F74FCA5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F3DE7B-ECE4-46A6-908C-675D9F92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799FC-D2E1-40A8-A277-DAFA7A34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D1E17-46CF-4A36-8904-42CEA52C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AC88B-4325-402F-A68B-A15BEE2A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164-11BD-4CD9-9C80-9E8ADEB6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71492-B3FD-4A01-98A3-BB7BD2AA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858EE-4531-471D-BA16-C6CCD35A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B2EC2-4305-4C1C-B4E3-3003C3E2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B38C5-4455-4B5E-91F1-C8861789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1BF65-3039-4B0F-B7B0-5A4339AB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93897-BBC8-47F5-8C47-E26D4BD7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0B3E53-329C-4DF4-BD69-414BAC777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69849-F71B-4AAF-BD7B-401B68DD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E5C1E-F267-484B-83BE-6EF17FAA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14273-C0FA-4EAB-A230-FB0BC99F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8D17-E491-4E35-851A-3417E8231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40DE7-FB6A-472C-A9FF-B490F942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4D3E5-82CD-42E9-B354-08050E15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68D07-622C-4991-92CE-120BA4CB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CCCCA-D523-46A4-BF30-057CE549C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EE1D5-F526-45B1-B0E9-EA8B505B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FB7F5-7AF7-41A5-B0C9-8FCFFBB2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F93D1-3600-4E04-8B06-8197B1DC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4BBA9-6F97-4D66-A8BE-EFEDEBEC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35860-BCFA-4C2F-8400-6B5E0092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A5413-F388-4079-BD3D-0D2694C9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D9B0-7EAE-4CF7-B7E6-923D48F3E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A48334-A394-4467-B35E-8A773024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D20563-EE41-4CD8-BF09-0D5AAA27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082EC-C1D8-414C-8EDA-59867870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E70750-5162-4A5B-BDA8-BF07DB069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84EC6C-CF15-4381-8D5A-79C5D40E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0B53B-9F58-410A-ACC1-7D5704EA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D77D85-80B9-445C-B540-BB12A91A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E0618-8742-4937-9F22-CFC30935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C504D-4644-4F90-ABD5-01E65CF9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26B4BA-5455-4928-9A23-ACA3E0D0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C180E-8685-4F00-86F3-69DCFF643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57B5F-738E-4569-BD22-C50F8022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8E32A-93D1-4818-A7CA-25567221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FFB01-E4CB-4484-8EFA-F75356A2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4064D-3F1E-48CF-B17B-7F8E1669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8E1CA6-92E0-4490-B9B2-470BB2C5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593FE-9A26-4848-AFF9-1E4805EA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A736A8-D7D6-4E5C-A692-8C668F9E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980B52-DF41-44F4-82AA-DCC242E0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E04C22-9F64-4477-B165-B3C2F9DA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7A5C15-5761-4A6D-95AE-5F90C635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F391-6EFD-4A7B-84D6-C6A8711D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DF20CE-5E40-4881-8BF4-D3E1D5AE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398FC9-8B41-40BC-9BEE-617EB75F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41B05-0ACB-4EDC-A2AA-77F45F87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3D8217-A45B-4DE4-A41D-916F02A9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1781A-6305-4469-8F66-3EE17681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3762C2-C4E7-44E5-A9B5-79DD64F6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2243E2-0F1D-480A-A585-16D9058D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417703-AA9C-471D-A13A-8E527828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6C39DA-41E5-461E-A9E6-54A225D7B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9F19E3-2DDC-4C65-9AA6-6AB2DA60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2713-B818-4F91-94FA-0477AF19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10A142-FD8D-491A-9BAB-8D2D7CCE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293F3-EE8A-4E40-84D5-8DDFFBC0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F2AEC-7F5C-4FFA-9885-B423FD1C8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57FCFE-1E12-4273-BAF5-C238E69A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E605B-5E44-457A-8E6B-E50DFCD8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B27703-8C69-4181-8A42-5442C09E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8261A5-1501-441F-94E4-923D5170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83629-1C2A-42BF-9243-4085EA3E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82CA50-8664-45AB-A907-1FE34949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B6903-948E-4983-80CE-F5CFB63D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A26F-8576-47FC-8E17-6580D3F8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A93257-1F64-4665-956F-D4AA7B51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E36C7D-323F-4EAA-BF92-AAA1968AC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785FBD-EE75-4EE1-9713-3EC3D570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511583-3E3D-453C-971A-D4A7670C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8E8553-8741-46CC-9F62-F534A52B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C29F81-B220-44DA-9B4A-89E5BDCB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4A2B21-E444-4E13-864B-220BF4CC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8B0F44-CE71-4428-9577-0E93EC08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826B70-1D45-429B-8046-DD0AFDA1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E54212-D2A9-41DE-9B60-693215D8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92A0-8C3B-4DC6-879C-D3073165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46DE0F-20F8-44A1-82DB-AA0100360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A854E9-972D-47F6-B850-4819374F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2471A2-DFF1-47BB-9120-B8695B87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11F9BE-E404-4740-B1BC-A8C131448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7B82E6-4B84-4723-B088-CAA49D18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52A0F-FEE0-46D8-BF79-65A666A6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F4B269-BA5F-42E7-86D0-DA70FA54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C50FEF-DEBC-4181-8E58-A20DB00E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135A50-C091-45D1-9CF2-7E509840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C47CF4-6851-462B-8C45-17BBDDD4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EFC-2F27-4BF3-8194-09B8BAE7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7779-CBC9-4671-9A53-134C3DC2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C0BF4F-A238-484C-96BE-DDBCB7FB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06F12D-1B00-484D-9720-8D184568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B34DF7-A20A-4B2B-A2B8-B84A7023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873BF2-1AEC-4B06-934D-D4AC4CD7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53B4D1-7533-44A9-9FD2-50A0C542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325852-E431-479C-B632-A683051C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8BDA41-7FD3-41F9-89B1-68CC1CBF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5304E4-D11C-4EC4-BAAC-1538D075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22CB0A-EFE0-4297-AB84-691CBCC9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5827C8-A000-483C-83B4-2B90AB8F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4408-CEDA-4A42-856C-29C1CF41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F5435E-A7F2-49A1-A522-DBCD5A37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FCB6A3-253E-4CF0-9ACE-78BC246A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6D88C4-F3D1-4F0B-AC14-3E896F70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C13B8A-2FA8-4DE3-B2A8-2C64DD65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A77697-5506-4D71-835F-6FE83F45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FA15B1-6D78-4420-AA7E-18F0585E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13301D-DAF6-4669-ABCE-12E93B4E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4881-6BF8-4EFD-8B27-6B69451D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5A7E-0685-4DFF-97B6-AB0CF4DF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CE2B-89A3-4DAC-8177-3875CE4D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40FED-C06D-4C59-A0BB-6061671F7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81655-3956-4883-898A-6826498E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60A92-8CC0-42E4-80CC-0BFED454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6A55F-E9B1-4339-88D6-9066BBC4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A1FA2-7D70-42C1-BC5B-96449DF7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325-4432-48C9-BD03-687DEA50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7D36-302D-48E6-A268-8283DB40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C9F5C-1BC6-4ACC-A542-49D13394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C98C3-B914-449C-B084-655F76CF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2FD75-C64A-48CA-964F-08F9A52B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36997-73B2-43DB-AEEA-F8D5F9E1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45347-CFC5-40DE-93C3-716457009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D1603-DFC7-4EF2-A78D-D422EB79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B47D9-5C17-41C6-A81C-594470CBA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CFDCC-5F18-47E0-A9FB-04229D87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B472F-A6FA-45FE-8B35-40E828BE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916-D14E-44D9-9452-BA87F129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D7793-DE5C-4042-ADA3-DA5C39F6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B65C8-2CA9-4531-B104-117769CA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1011A-3277-44A4-A4D0-207B074E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87221-4A6F-4724-A4F6-E072680D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03DF7-2858-4B76-9554-436EC2DE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F2E8C-76B7-4567-9089-B0407B91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14F0E-D7C9-4CB9-8BD0-46A82965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3D4DE-9BD9-4032-A298-18A4D410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A3B44-BEA8-45FB-98D4-9009A1B5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76D05-F111-40B0-ABB9-3B91B090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D69-A988-4491-A545-2DF9D582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FC92B-A6CD-425C-8B90-8AAE66FE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EB0A2-BD70-41AE-9F78-078C7373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A1174-3CB6-408C-B424-B2EBEAA59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9625F-7DD5-434B-9D5E-7557D63B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FFB1E-70B6-4424-A7BB-15AC3E86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4B129-C481-4EC3-84EB-833CA543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4ABEF-B62D-48A4-A0BB-5D49C6DF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E9E6D-DB9C-4A9A-9E4B-A5ABEA0E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AC6FC-4370-45E9-B021-BF744EEF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0F8FD-A5E0-4D58-9FDF-47FCA735F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797-5878-4A33-A565-FFDA8310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F8A15-9339-4E70-81DA-6D3BFDFD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7F3FE-63A6-42E4-9643-4B72BC35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31130-5A3D-4752-8E47-DCB1417E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50C67-D840-45B4-8DB8-5AF0A60F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23A56-4100-4F6F-8B83-18A65C1A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21EDA-4BBB-4A2F-9980-E960EBFD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A753D-A545-4834-B9D2-3032A033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A04AF-4736-4B98-9951-0D33E250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E84C2-3A16-4702-A668-9640F009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C05E3-ED8B-4134-B690-143F312B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390B-F968-4CE6-9B06-A493799F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3A64A-1FB4-41FA-9276-76575CCC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5BD1B-C6DC-495D-8098-64252D6F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6628F-7B3D-437E-9811-49AEE8AD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6EEB1-3BE8-4112-ADA3-AC3772FE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6675D-7E5D-4C82-936A-B8A3F749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8E55A-2B3F-44B9-A6CA-D36A74FA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7BF2D-115D-4586-B632-D18D9C66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DE70A-A555-4C3C-9AC2-2F27DD07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4A653-84F7-42D7-AE56-8E27F89D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0FB90-52CC-4946-82BB-420D20A5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CAF-0DDF-49F7-AF75-BCD6D340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77FA1-C144-44D1-B371-4C8F0501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14E60-A11C-479C-A0EE-DE203C30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6FBBB-BA35-4AAD-9C62-B3CF121C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1C80C-E66F-4FA4-AFFA-A3FA2704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F771B-95E2-4DBE-8AD3-0802B340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50FE5-2EA4-4320-A412-38762341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051A4-3621-4CFE-91BF-4F63F199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1E4E1-0091-4EA3-873F-549DA2FF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FA964-C9AF-4A35-B342-6B5F7ECB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F0973-58F8-436D-9C0D-D5BF8534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4F4-F6F9-4385-B9B8-07D58D71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680760" y="752040"/>
            <a:ext cx="96138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F5E96E-A37E-44ED-920E-6CAE8B09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72FCD-EE95-4150-8B4B-0C9A884D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940A1-1B2B-4812-82F8-BD0643AB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AAC2F-462C-444A-831F-0F337D3A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80760" y="4216320"/>
            <a:ext cx="96138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1BEE7-17EB-42ED-8C91-26D6E673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607360" y="233640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07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5607360" y="4216320"/>
            <a:ext cx="469152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A794B-F572-40F9-93AE-C1F569C0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93120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181640" y="233640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68076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93120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7181640" y="4216320"/>
            <a:ext cx="30952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41744-A978-44A7-B2BB-CC4C53D7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136A1-105C-4FD5-BA14-4C2134E1B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A47F3-5D24-4486-853F-1BF2A959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38458-2665-4B74-B496-ADCBE0A2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AB11-57EA-40CB-BBE8-F8BF8B7B3A23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C296-1B6C-49E3-ADA1-C560F68D8592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9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31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32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33"/>
          </p:nvPr>
        </p:nvSpPr>
        <p:spPr>
          <a:xfrm>
            <a:off x="10729800" y="471168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32A9-5EEA-4D99-9CA6-BB46DDDA8B70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9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10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10729800" y="471168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47F1-F2AD-47ED-ACD6-A8A9E8DE419B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2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3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Box 15"/>
          <p:cNvSpPr/>
          <p:nvPr/>
        </p:nvSpPr>
        <p:spPr>
          <a:xfrm>
            <a:off x="584280" y="74772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“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Box 16"/>
          <p:cNvSpPr/>
          <p:nvPr/>
        </p:nvSpPr>
        <p:spPr>
          <a:xfrm>
            <a:off x="9663120" y="30337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dt" idx="37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ftr" idx="38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sldNum" idx="39"/>
          </p:nvPr>
        </p:nvSpPr>
        <p:spPr>
          <a:xfrm>
            <a:off x="10729800" y="470988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F4505-3B6D-40C7-A1E3-55A31379F6B8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8" descr="HD-ShadowLong.png"/>
          <p:cNvPicPr/>
          <p:nvPr/>
        </p:nvPicPr>
        <p:blipFill>
          <a:blip r:embed="rId3"/>
          <a:stretch/>
        </p:blipFill>
        <p:spPr>
          <a:xfrm>
            <a:off x="0" y="592920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9" descr="HD-ShadowShort.png"/>
          <p:cNvPicPr/>
          <p:nvPr/>
        </p:nvPicPr>
        <p:blipFill>
          <a:blip r:embed="rId4"/>
          <a:stretch/>
        </p:blipFill>
        <p:spPr>
          <a:xfrm>
            <a:off x="10585440" y="5929200"/>
            <a:ext cx="1603440" cy="14472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10"/>
          <p:cNvSpPr/>
          <p:nvPr/>
        </p:nvSpPr>
        <p:spPr>
          <a:xfrm>
            <a:off x="0" y="4567320"/>
            <a:ext cx="1043784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10585440" y="45673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40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41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2"/>
          </p:nvPr>
        </p:nvSpPr>
        <p:spPr>
          <a:xfrm>
            <a:off x="10729800" y="470988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0BC4-3E20-4A15-9CA0-6DB9EB1D090A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3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4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5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A08C-C7B7-4657-811C-8B0A81A5F147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5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16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17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6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47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48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5BCE-F1A3-4937-956D-B4F7AF4C7353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6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7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8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9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9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50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51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337B-063E-494C-BF06-4D1C996EA882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6"/>
          <p:cNvSpPr/>
          <p:nvPr/>
        </p:nvSpPr>
        <p:spPr>
          <a:xfrm rot="5400000">
            <a:off x="8115480" y="1869120"/>
            <a:ext cx="5106960" cy="1368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Rectangle 7"/>
          <p:cNvSpPr/>
          <p:nvPr/>
        </p:nvSpPr>
        <p:spPr>
          <a:xfrm rot="5400000">
            <a:off x="9867240" y="5371920"/>
            <a:ext cx="1603440" cy="136836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52"/>
          </p:nvPr>
        </p:nvSpPr>
        <p:spPr>
          <a:xfrm>
            <a:off x="680724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53"/>
          </p:nvPr>
        </p:nvSpPr>
        <p:spPr>
          <a:xfrm>
            <a:off x="680760" y="5935680"/>
            <a:ext cx="612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54"/>
          </p:nvPr>
        </p:nvSpPr>
        <p:spPr>
          <a:xfrm>
            <a:off x="10098000" y="5398920"/>
            <a:ext cx="11541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56CD-D950-4215-802B-E724A39E5563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8967960" cy="274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HD-ShadowShort.png"/>
          <p:cNvPicPr/>
          <p:nvPr/>
        </p:nvPicPr>
        <p:blipFill>
          <a:blip r:embed="rId4"/>
          <a:stretch/>
        </p:blipFill>
        <p:spPr>
          <a:xfrm>
            <a:off x="9112320" y="4243320"/>
            <a:ext cx="3076560" cy="2779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0" y="2590920"/>
            <a:ext cx="896796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9112320" y="2590920"/>
            <a:ext cx="307656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255240" y="2749680"/>
            <a:ext cx="117144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B639-2C52-4999-A0C5-03F6BDCFD1CA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6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F172-7C60-465C-A109-60ACA2A41DE9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D-ShadowLong.png"/>
          <p:cNvPicPr/>
          <p:nvPr/>
        </p:nvPicPr>
        <p:blipFill>
          <a:blip r:embed="rId3"/>
          <a:stretch/>
        </p:blipFill>
        <p:spPr>
          <a:xfrm>
            <a:off x="0" y="4086360"/>
            <a:ext cx="10437840" cy="32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HD-ShadowShort.png"/>
          <p:cNvPicPr/>
          <p:nvPr/>
        </p:nvPicPr>
        <p:blipFill>
          <a:blip r:embed="rId4"/>
          <a:stretch/>
        </p:blipFill>
        <p:spPr>
          <a:xfrm>
            <a:off x="10585440" y="408780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8"/>
          <p:cNvSpPr/>
          <p:nvPr/>
        </p:nvSpPr>
        <p:spPr>
          <a:xfrm>
            <a:off x="0" y="272556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10585440" y="272556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10729800" y="2869920"/>
            <a:ext cx="11541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7C1C-20D7-448C-B371-A5C010A374F8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C78A-D313-4EF7-9D00-338449C8ADA4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0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1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8098-0EB2-46BB-9B81-C99F200461B1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7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8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488D-0870-4B6A-88A8-75BC9936D06C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HD-ShadowShort.png"/>
          <p:cNvPicPr/>
          <p:nvPr/>
        </p:nvPicPr>
        <p:blipFill>
          <a:blip r:embed="rId3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5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22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3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4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4EC5-19DE-47CA-B824-DEC4A2ABC310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6" descr="hashOverlay-FullResolve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HD-ShadowLong.png"/>
          <p:cNvPicPr/>
          <p:nvPr/>
        </p:nvPicPr>
        <p:blipFill>
          <a:blip r:embed="rId3"/>
          <a:stretch/>
        </p:blipFill>
        <p:spPr>
          <a:xfrm>
            <a:off x="0" y="1969920"/>
            <a:ext cx="10437840" cy="320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8" descr="HD-ShadowShort.png"/>
          <p:cNvPicPr/>
          <p:nvPr/>
        </p:nvPicPr>
        <p:blipFill>
          <a:blip r:embed="rId4"/>
          <a:stretch/>
        </p:blipFill>
        <p:spPr>
          <a:xfrm>
            <a:off x="10585440" y="1971720"/>
            <a:ext cx="1603440" cy="14436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9"/>
          <p:cNvSpPr/>
          <p:nvPr/>
        </p:nvSpPr>
        <p:spPr>
          <a:xfrm>
            <a:off x="0" y="609480"/>
            <a:ext cx="104378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10585440" y="609480"/>
            <a:ext cx="160344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0760" y="2336400"/>
            <a:ext cx="96138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7551720" y="593568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680760" y="5935680"/>
            <a:ext cx="6870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10729800" y="752400"/>
            <a:ext cx="11541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0F97-C13C-4A64-B59A-330188045C60}" type="slidenum">
              <a:rPr b="0" lang="en-US" sz="36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0" y="2882880"/>
            <a:ext cx="8825040" cy="13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Calibri"/>
                <a:ea typeface="Calibri"/>
              </a:rPr>
              <a:t>КОНТРОЛЬНИЙ ПЕРЕЛІК СПРИЯННЯ ЯКОСТІ ПРАВОСУДДЯ ТА ЯКОСТІ РОБОТИ СУДІВ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subTitle"/>
          </p:nvPr>
        </p:nvSpPr>
        <p:spPr>
          <a:xfrm>
            <a:off x="681120" y="4393800"/>
            <a:ext cx="8143920" cy="11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Д-р Пім Альберс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Експерт Програми 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USAID </a:t>
            </a: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“Нове правосуддя”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8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11"/>
          <p:cNvSpPr/>
          <p:nvPr/>
        </p:nvSpPr>
        <p:spPr>
          <a:xfrm>
            <a:off x="4645080" y="0"/>
            <a:ext cx="7551720" cy="685800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Picture 13" descr=""/>
          <p:cNvPicPr/>
          <p:nvPr/>
        </p:nvPicPr>
        <p:blipFill>
          <a:blip r:embed="rId2"/>
          <a:stretch/>
        </p:blipFill>
        <p:spPr>
          <a:xfrm>
            <a:off x="0" y="5005440"/>
            <a:ext cx="4965840" cy="14616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15"/>
          <p:cNvSpPr/>
          <p:nvPr/>
        </p:nvSpPr>
        <p:spPr>
          <a:xfrm>
            <a:off x="0" y="1838160"/>
            <a:ext cx="4964040" cy="318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0760" y="2063880"/>
            <a:ext cx="373860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rebuchet MS"/>
              </a:rPr>
              <a:t>Як збирати інформацію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5287680" y="659880"/>
            <a:ext cx="6257880" cy="550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Певні дані/інформацію можна збирати на національному рівні: Міністерство юстиції, Державна судова адміністрація, Вища рада правосуддя, Вища кваліфікаційна комісія суддів, Національна школа суддів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Інші дані/інформацію слід збирати на регіональному/обласному рівні: територіальні управління Державної судової адміністрації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Останній рівень збору даних: вибрані суди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6080" indent="-226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rebuchet MS"/>
              </a:rPr>
              <a:t>Для кожного питання/теми в контрольному переліку слід запропонувати компетентний судовий орган або орган юстиції, який має збирати інформацію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Пропозиції щодо установ, які мають бути залучені до процесу збору даних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290520" y="2158920"/>
          <a:ext cx="6978600" cy="4554720"/>
        </p:xfrm>
        <a:graphic>
          <a:graphicData uri="http://schemas.openxmlformats.org/drawingml/2006/table">
            <a:tbl>
              <a:tblPr/>
              <a:tblGrid>
                <a:gridCol w="4133880"/>
                <a:gridCol w="1050840"/>
                <a:gridCol w="914400"/>
                <a:gridCol w="879480"/>
              </a:tblGrid>
              <a:tr h="244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V Доступ до правосудд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ержав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гі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</a:tr>
              <a:tr h="406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легкого доступу до інформації про суди? (наприклад, через веб-сайти)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408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є судові рішення загальнодоступними через базу даних он-лайн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інформування громадян про їхні законні права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доступна інформація про суд багатьма мовами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1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надання правової допомоги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система збору судового збору?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можна сплатити судовий збір он-лайн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є загальнодоступна інформація для громадян про те, де можна отримати правову допомогу та захист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можуть громадяни легко дістатися до суду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408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доступності суду для людей з обмеженими можливостями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406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безпеки та доступу до приміщень суду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408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існує політика підвищення якості та зрозумілості судових рішень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76" name=""/>
          <p:cNvGraphicFramePr/>
          <p:nvPr/>
        </p:nvGraphicFramePr>
        <p:xfrm>
          <a:off x="7645320" y="2340000"/>
          <a:ext cx="4249800" cy="2743200"/>
        </p:xfrm>
        <a:graphic>
          <a:graphicData uri="http://schemas.openxmlformats.org/drawingml/2006/table">
            <a:tbl>
              <a:tblPr/>
              <a:tblGrid>
                <a:gridCol w="568440"/>
                <a:gridCol w="3681360"/>
              </a:tblGrid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ні/інформація, яку мають збирати суд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cc2e5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Інформація, яку мають збирати ТУ ДСА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</a:tr>
              <a:tr h="1646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e0b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ні/інформація, яку має збирати: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іністерство юстиції, Державна судова адміністрація, Вища рада правосуддя, Вища кваліфікаційна комісія суддів, Національна школа судді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ead0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26" name="Rectangle 11"/>
          <p:cNvSpPr/>
          <p:nvPr/>
        </p:nvSpPr>
        <p:spPr>
          <a:xfrm>
            <a:off x="11160" y="6210360"/>
            <a:ext cx="8967600" cy="2761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Rectangle 13"/>
          <p:cNvSpPr/>
          <p:nvPr/>
        </p:nvSpPr>
        <p:spPr>
          <a:xfrm>
            <a:off x="9121680" y="6191280"/>
            <a:ext cx="3081600" cy="2761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0" y="4557600"/>
            <a:ext cx="8978760" cy="1660680"/>
          </a:xfrm>
          <a:prstGeom prst="rect">
            <a:avLst/>
          </a:prstGeom>
          <a:solidFill>
            <a:srgbClr val="0d0d0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9121680" y="4557600"/>
            <a:ext cx="3078360" cy="16606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1120" y="4714920"/>
            <a:ext cx="812808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ffffff"/>
                </a:solidFill>
                <a:latin typeface="Trebuchet MS"/>
              </a:rPr>
              <a:t>Загальна інформація про контрольний перелік</a:t>
            </a:r>
            <a:endParaRPr b="0" lang="en-US" sz="43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642600" y="665280"/>
            <a:ext cx="8325000" cy="35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Це був перший документ, розроблений робочою групою з питань якості роботи (GT-QUAL) Європейської комісії з питань ефективності правосуддя Ради Європи у 2008 році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Цей інструмент розроблений для збору інформації та здійснення аналізу відповідних аспектів, пов'язаних із якістю правосуддя та роботи суду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На відміну від інших моделей якості роботи суду (як-от: системи судової досконалості), він зосереджується на трьох рівнях: національному рівні, рівні суду та рівні окремого судді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Rectangle 9"/>
          <p:cNvSpPr/>
          <p:nvPr/>
        </p:nvSpPr>
        <p:spPr>
          <a:xfrm>
            <a:off x="8785080" y="0"/>
            <a:ext cx="3407040" cy="685800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4" name="Picture 11" descr=""/>
          <p:cNvPicPr/>
          <p:nvPr/>
        </p:nvPicPr>
        <p:blipFill>
          <a:blip r:embed="rId1"/>
          <a:stretch/>
        </p:blipFill>
        <p:spPr>
          <a:xfrm>
            <a:off x="-324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35" name="Picture 13" descr=""/>
          <p:cNvPicPr/>
          <p:nvPr/>
        </p:nvPicPr>
        <p:blipFill>
          <a:blip r:embed="rId2"/>
          <a:stretch/>
        </p:blipFill>
        <p:spPr>
          <a:xfrm>
            <a:off x="0" y="1959120"/>
            <a:ext cx="9107640" cy="32040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15"/>
          <p:cNvSpPr/>
          <p:nvPr/>
        </p:nvSpPr>
        <p:spPr>
          <a:xfrm>
            <a:off x="0" y="609480"/>
            <a:ext cx="9107640" cy="13687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7461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Попит і пропозиція як точка відліку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680760" y="2336400"/>
            <a:ext cx="74610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 u="sng">
                <a:solidFill>
                  <a:srgbClr val="ffffff"/>
                </a:solidFill>
                <a:uFillTx/>
                <a:latin typeface="Trebuchet MS"/>
              </a:rPr>
              <a:t>Пропозиція</a:t>
            </a:r>
            <a:r>
              <a:rPr b="0" lang="en-US" sz="1500" spc="-1" strike="noStrike" u="sng">
                <a:solidFill>
                  <a:srgbClr val="ffffff"/>
                </a:solidFill>
                <a:uFillTx/>
                <a:latin typeface="Trebuchet MS"/>
              </a:rPr>
              <a:t>: </a:t>
            </a:r>
            <a:r>
              <a:rPr b="0" lang="uk-UA" sz="1500" spc="-1" strike="noStrike">
                <a:solidFill>
                  <a:srgbClr val="ffffff"/>
                </a:solidFill>
                <a:latin typeface="Trebuchet MS"/>
              </a:rPr>
              <a:t>у центрі моделі – питання стратегії та політики, щоб наголосити на тому, що стратегічні, операційні плани та плани політики знаходяться в самому серці функціонування сектору правосуддя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Trebuchet MS"/>
              </a:rPr>
              <a:t>Кадрові ресурси також входять до моделі, оскільки належне функціонування судової системи залежить від якості роботи суддів, прокурорів і працівників суду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Trebuchet MS"/>
              </a:rPr>
              <a:t>Окрім кадрових ресурсів і стратегії/політики, модель зосереджується на ресурсах. Для забезпечення високого рівня якості роботи необхідно достатньо ресурсів (бюджет, ІТ, інфраструктура суду)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ffffff"/>
                </a:solidFill>
                <a:latin typeface="Trebuchet MS"/>
              </a:rPr>
              <a:t>Остання складова моделі стосується функціонування та процесів. Вона пов'язана з різними видами діяльності: від підготовки справ до написання проекту рішення та його виконання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 u="sng">
                <a:solidFill>
                  <a:srgbClr val="ffffff"/>
                </a:solidFill>
                <a:uFillTx/>
                <a:latin typeface="Trebuchet MS"/>
              </a:rPr>
              <a:t>Попит:</a:t>
            </a:r>
            <a:r>
              <a:rPr b="0" lang="uk-UA" sz="1500" spc="-1" strike="noStrike">
                <a:solidFill>
                  <a:srgbClr val="ffffff"/>
                </a:solidFill>
                <a:latin typeface="Trebuchet MS"/>
              </a:rPr>
              <a:t> модель наголошує на важливості врахування попиту (відвідувачів суду). Як і в багатьох моделях якості роботи, тут також є потреба в зосередженні на користувачах</a:t>
            </a:r>
            <a:endParaRPr b="0" lang="en-US" sz="15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8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0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1" name="Rectangle 12"/>
          <p:cNvSpPr/>
          <p:nvPr/>
        </p:nvSpPr>
        <p:spPr>
          <a:xfrm>
            <a:off x="4645080" y="0"/>
            <a:ext cx="7551720" cy="685800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2" name="Picture 14" descr=""/>
          <p:cNvPicPr/>
          <p:nvPr/>
        </p:nvPicPr>
        <p:blipFill>
          <a:blip r:embed="rId2"/>
          <a:stretch/>
        </p:blipFill>
        <p:spPr>
          <a:xfrm>
            <a:off x="0" y="5005440"/>
            <a:ext cx="4965840" cy="14616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16"/>
          <p:cNvSpPr/>
          <p:nvPr/>
        </p:nvSpPr>
        <p:spPr>
          <a:xfrm>
            <a:off x="0" y="1838160"/>
            <a:ext cx="4964040" cy="318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0760" y="2063880"/>
            <a:ext cx="373860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rebuchet MS"/>
              </a:rPr>
              <a:t>Модель контрольного переліку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45" name="Tijdelijke aanduiding voor inhoud 3" descr=""/>
          <p:cNvPicPr/>
          <p:nvPr/>
        </p:nvPicPr>
        <p:blipFill>
          <a:blip r:embed="rId3"/>
          <a:stretch/>
        </p:blipFill>
        <p:spPr>
          <a:xfrm>
            <a:off x="5284800" y="603360"/>
            <a:ext cx="6261120" cy="568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7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48" name="Rectangle 11"/>
          <p:cNvSpPr/>
          <p:nvPr/>
        </p:nvSpPr>
        <p:spPr>
          <a:xfrm>
            <a:off x="4645080" y="0"/>
            <a:ext cx="7551720" cy="685800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9" name="Picture 13" descr=""/>
          <p:cNvPicPr/>
          <p:nvPr/>
        </p:nvPicPr>
        <p:blipFill>
          <a:blip r:embed="rId2"/>
          <a:stretch/>
        </p:blipFill>
        <p:spPr>
          <a:xfrm>
            <a:off x="0" y="5005440"/>
            <a:ext cx="4965840" cy="146160"/>
          </a:xfrm>
          <a:prstGeom prst="rect">
            <a:avLst/>
          </a:prstGeom>
          <a:ln w="0">
            <a:noFill/>
          </a:ln>
        </p:spPr>
      </p:pic>
      <p:sp>
        <p:nvSpPr>
          <p:cNvPr id="850" name="Rectangle 15"/>
          <p:cNvSpPr/>
          <p:nvPr/>
        </p:nvSpPr>
        <p:spPr>
          <a:xfrm>
            <a:off x="0" y="1838160"/>
            <a:ext cx="4964040" cy="318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0760" y="2063880"/>
            <a:ext cx="396396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rebuchet MS"/>
              </a:rPr>
              <a:t>Використання контрольного переліку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5287680" y="659880"/>
            <a:ext cx="6257880" cy="550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Користувачі контрольного переліку можуть робити відмітки у відповідних комірках, щоб позначити, було охоплено це питання, чи ні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Якщо питання не було охоплено, контрольний перелік може допомогти організаціям в розробці нової політики, зміні існуючої та зосередженні на конкретних питаннях якості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Дійові особи: органи правосуддя на національному рівні, регіональному рівні, на рівні судів та окремих суддів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Зразок частини контрольного переліку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854" name=""/>
          <p:cNvGraphicFramePr/>
          <p:nvPr/>
        </p:nvGraphicFramePr>
        <p:xfrm>
          <a:off x="2314440" y="2092320"/>
          <a:ext cx="6863040" cy="4341960"/>
        </p:xfrm>
        <a:graphic>
          <a:graphicData uri="http://schemas.openxmlformats.org/drawingml/2006/table">
            <a:tbl>
              <a:tblPr/>
              <a:tblGrid>
                <a:gridCol w="3660840"/>
                <a:gridCol w="333360"/>
                <a:gridCol w="374760"/>
                <a:gridCol w="577800"/>
                <a:gridCol w="787320"/>
                <a:gridCol w="1128960"/>
              </a:tblGrid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ідвалини функціонування правосудд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у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удд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 застосовн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26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 СТРАТЕГІЯ ТА ПОЛІ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І.1. Організація та полі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Чи є державний орган (Мін’юст чи Вища рада правосуддя), що відповідє за розробку стратегічної політики та її впровадження для судової влади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Чи існує законодавство, що підтримує суди чи організацію судів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Чи існує на конституційному рівні (або на найвищому рівні ієрархії правових норм)  гарантія захисту незалежності судової влади по відношенню до законодавчої та виконавчої гілок влади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 Чи  існує  політика, що стосується спеціалізації судів і суддів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Чи визначаються цілі (якості роботи) судів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</a:t>
                      </a: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и  існують  стратегія та політика визначення потреб і планування ресурсів судів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Чи  існує  політика щодо структури та юрисдикції судів, включаючи політику щодо географічного розташування судів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Обмеження контрольного переліку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681120" y="2336400"/>
            <a:ext cx="79200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Контрольний перелік охоплює надто багато питань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Обмежене практичне використання для розробників політики, судів і суддів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На застосовується в жодній з держав-членів Ради Європи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Немає потреби включати рівень окремого судді до контрольного переліку, зосереджуючись на політиці, стратегії та управлінні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Необхідно спростити контрольний перелік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А також реорганізувати ключові питання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ffffff"/>
                </a:solidFill>
                <a:latin typeface="Trebuchet MS"/>
              </a:rPr>
              <a:t>Контрольний перелік може використовуватися для визначення браку політики в певних галузях та надання опису основних реформ, реалізованих у тому році, коли використовувався перелік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57" name="Afbeelding 3" descr=""/>
          <p:cNvPicPr/>
          <p:nvPr/>
        </p:nvPicPr>
        <p:blipFill>
          <a:blip r:embed="rId1"/>
          <a:stretch/>
        </p:blipFill>
        <p:spPr>
          <a:xfrm>
            <a:off x="8566200" y="2336760"/>
            <a:ext cx="3456000" cy="3457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8"/>
          <p:cNvSpPr/>
          <p:nvPr/>
        </p:nvSpPr>
        <p:spPr>
          <a:xfrm>
            <a:off x="0" y="0"/>
            <a:ext cx="12188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9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60" name="Rectangle 12"/>
          <p:cNvSpPr/>
          <p:nvPr/>
        </p:nvSpPr>
        <p:spPr>
          <a:xfrm>
            <a:off x="4645080" y="0"/>
            <a:ext cx="7551720" cy="685800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1" name="Picture 14" descr=""/>
          <p:cNvPicPr/>
          <p:nvPr/>
        </p:nvPicPr>
        <p:blipFill>
          <a:blip r:embed="rId2"/>
          <a:stretch/>
        </p:blipFill>
        <p:spPr>
          <a:xfrm>
            <a:off x="0" y="5005440"/>
            <a:ext cx="4965840" cy="14616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6"/>
          <p:cNvSpPr/>
          <p:nvPr/>
        </p:nvSpPr>
        <p:spPr>
          <a:xfrm>
            <a:off x="0" y="1838160"/>
            <a:ext cx="4964040" cy="31816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0760" y="2063880"/>
            <a:ext cx="373860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rebuchet MS"/>
              </a:rPr>
              <a:t>Переглянута та спрощена модель контрольного переліку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864" name="Tijdelijke aanduiding voor inhoud 3" descr=""/>
          <p:cNvPicPr/>
          <p:nvPr/>
        </p:nvPicPr>
        <p:blipFill>
          <a:blip r:embed="rId3"/>
          <a:stretch/>
        </p:blipFill>
        <p:spPr>
          <a:xfrm>
            <a:off x="5224320" y="639720"/>
            <a:ext cx="6461280" cy="557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80760" y="752040"/>
            <a:ext cx="9613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rebuchet MS"/>
              </a:rPr>
              <a:t>Новий зразок спрощеного контрольного переліку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382680" y="2043000"/>
          <a:ext cx="11318760" cy="4496040"/>
        </p:xfrm>
        <a:graphic>
          <a:graphicData uri="http://schemas.openxmlformats.org/drawingml/2006/table">
            <a:tbl>
              <a:tblPr/>
              <a:tblGrid>
                <a:gridCol w="6670440"/>
                <a:gridCol w="1833840"/>
                <a:gridCol w="1533240"/>
                <a:gridCol w="1281240"/>
              </a:tblGrid>
              <a:tr h="455760"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I. Стратегічні, (операційні) плани та полі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Державний рів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Регіональний рівен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Су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</a:tr>
              <a:tr h="7588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є державний орган (Мін’юст чи Вища рада правосуддя), що відповідає за розробку стратегічної політики та її впровадження для судової влади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</a:tr>
              <a:tr h="37944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 існує  політика, що стосується спеціалізації судів і суддів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</a:tr>
              <a:tr h="5698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 існує  політика планування та виконання бюджету судової влади та окремих судів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</a:tr>
              <a:tr h="5698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 існує  політика щодо географічного розташування судів та розподілу юрисдикції судів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</a:tr>
              <a:tr h="37944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розроблені для судової влади визначення місії та бачення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</a:tr>
              <a:tr h="2206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розроблена політика інновацій у судах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</a:tr>
              <a:tr h="5680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розробляють і виконують суди (річні) плани з чітко визначеними цілями якості роботи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</a:tr>
              <a:tr h="38124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 існує  політика розподілу справ між суддями у судах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fe7"/>
                    </a:solidFill>
                  </a:tcPr>
                </a:tc>
              </a:tr>
              <a:tr h="213480">
                <a:tc>
                  <a:txBody>
                    <a:bodyPr lIns="65880" rIns="6588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rebuchet MS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и вимірюється навантаження на окремих суддів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9415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ccc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2T08:13:29Z</dcterms:created>
  <dc:creator>Pim Albers</dc:creator>
  <dc:description/>
  <dc:language>en-US</dc:language>
  <cp:lastModifiedBy>ignatchenko</cp:lastModifiedBy>
  <dcterms:modified xsi:type="dcterms:W3CDTF">2017-04-24T08:21:26Z</dcterms:modified>
  <cp:revision>26</cp:revision>
  <dc:subject/>
  <dc:title>Checklist for promoting quality of justice and courts</dc:title>
</cp:coreProperties>
</file>