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0BA-572A-4A0F-83FF-9673687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E7A-ABF4-42D6-ACEB-597964A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FDCE-80BD-47EA-A7B7-009F0AF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F68B1-06B0-4D36-85A1-AB62221A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5EE6-10F2-4DDE-A6B0-A9966ED8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DF8D9-1AED-48F4-B106-39469A9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F33DD-163E-4FA2-9992-8C53770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291DE-F9AA-4195-8E4F-C7FB6492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133FF-D908-441D-B087-3880BEB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F4E4-30E2-4D11-8A11-A6F9CCA9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5C2A3-940F-4B28-8BCF-146AD338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81273-A885-4E97-A48F-84DCAE4F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34C-5476-4B30-B780-5933285C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4F665-99E9-4203-9365-2FC453F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B141F-0952-4193-A31A-96D2DFF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427C5-F78E-4C6E-9B37-557A10C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00B91-92D8-44BB-BA98-9CB4FB4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08408-1EEF-4E0E-A47B-0EE1C82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3290B-458A-477F-8621-41C86CB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27017-7957-4499-A651-1CC9DBD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21735-47DB-42F0-8612-51AB6B4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33204-67F4-488C-BF5B-5FDFA56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5B0FA-CCE9-44FB-9AB2-A079B95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8F4-100E-4EDC-B63A-4873F6E6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E7C37-9C30-4961-8AAB-003DAA8E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B3220-2CF9-43B4-B3B7-CFA47F9A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D70DF-19AA-4E7A-B865-71EC88E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9C01-5DFC-4FCF-81B5-DA49AB5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F857D-D8DE-43FD-9F96-B9F96F9C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7F8F0-BD15-4FC7-8F27-CAB344F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0388-B456-41B5-AFE3-2D646FB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03DB7-024B-4240-86E2-46E8E64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F6B68-615F-43EC-8BD7-6F4426C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46FBB-C541-497B-995D-3E6C2FA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E9F-D6AD-4B99-8280-C0C7AECF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AC06-862B-48B3-87E5-00A332C3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22C2-AE9F-4470-953A-3637037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636C1-4B4C-44A5-8817-4E6D3ADA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D5189-C1C8-40AC-B2AA-8D70B69F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AB8BB-F13E-475E-961D-8FEEB1BF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FBB59-EB9B-43EB-A81B-B2C7936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07352-3483-4736-B877-980DF34A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6EFED-EEFA-48DD-A759-5B2E159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60D47-C0CA-4B80-AC29-2F3AF48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B0822-9C67-4A0F-8707-4978CB2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65ED-BD1E-455A-B704-10D2FA3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C1FFC-4FEF-41DD-8464-850492E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C4B6-D259-40C7-8633-59603E4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F4D56-B55E-48BF-A399-FE1EA26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63872-6D9F-4D2E-9DFC-1EC2B745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97DB-3A38-4F05-95AA-0C4DD63B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71CF6-1C97-410E-8786-9A06929C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31FA1-84DB-46A9-ABBC-494030C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FCA17-237C-454B-AD3C-F2BDE6DA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86BFD-76CA-4980-9198-BE24A82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EEE86-626B-4126-851E-CA916D6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EBBA-545C-4633-AB07-419AA8C3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29CF6-8E12-4989-B2B7-A645B66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31F43-64D8-4B16-A50D-DE1F630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A6959-E870-4931-A1A7-896B2E5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22F4B-9EA6-478C-8267-1934848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97083-19A2-4393-8BE2-D0CBB975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C8BDB-8FB5-407A-ADF3-AAAB992E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EAF4E-C1AB-447F-BFE9-F64F230D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EE1DB-A320-49BC-A62C-94C66C79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3B68A-47BE-42E1-90CB-C938DCE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8647C-6F54-4954-8CEB-9483E64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4BAA-ACC4-4756-8CBB-A137024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7789-330A-42F5-93AE-4ADF9241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652FD-B7FF-49F3-A71A-7CF97AFA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1E140-FE45-491B-8529-41978FD6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A0FEA-5DAC-43BC-9261-B38565A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5FEEC-3723-400B-BD96-22757A3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23325-D291-4F3D-AA31-E41EBA7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8DC29-3872-473B-9E3D-A91BA12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13BD3-C08D-422A-B416-5875C233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5A1FE-BDE9-4A01-B91C-D46AE1FF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C0808-80F8-4AAE-A59D-A46DD181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2E3B-BFDE-4F7C-A01E-2CD6E79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D8D0B-5F43-43D9-AF6A-602D2836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BB3F6-318A-432A-9436-9F04E02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91F33-361A-425F-A373-FD338FA7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864F6-1CEA-45D7-BC8D-A6A295F1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B3518-7FC2-4EE3-8115-28B06CDB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9455E-F3B3-48F8-B8E1-D53AC18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81686-5E85-4271-A899-1C0E5AFE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4AA1A-1205-4FA0-BAA6-2F3BDC7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FEEFE-51B2-42D5-BF44-2C1C767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4F013-1D70-40FB-91E5-8CCC9FD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B72-8B0B-4FE2-B760-FC2946C2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7E4EF-5E15-4B72-8655-5CD1DB12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41574-D1F7-4A7D-842E-241E3888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61138-9A07-4EE1-8565-2C411DA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CBC2C-84C6-40FC-AF0E-BD4E01F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B357A-1E28-4064-8D6C-BE124FD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4A34B-BBB4-4BD0-975E-B563EA1A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54DC5-3DE3-4A9D-80E2-E63423FE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B7C30-A066-4E14-950E-0ECCB3E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5CCEC-2C41-4DB4-9FE0-1EDD0C3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4C9F8-DBE0-4315-A02C-5C01BD7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D0F-58C1-4ACE-9ACD-28FA3CA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EBE16-E7F4-4EB1-8301-27655DE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4CAD6-C5EB-4958-8EEB-FCBA93F4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A2358-B821-42D1-91FE-B5E8E759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C4517-43AA-4C0C-A655-5121AA65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B3687-007A-4ADA-8DFF-D632F64E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CD5B6-C816-4CDC-801F-9EB9DEE0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84681-1549-4F00-804F-E3AD1349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B64C4-6D65-4179-B312-0F4D720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3111D-B726-4749-A7E3-75154DC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553EF-C4D0-4012-8A09-D2B46B6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53C-0C0E-4FAC-B394-747C01D9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653-88A8-479B-8F33-CADD6C6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2C69E-3BFC-4E6A-9B3A-6ADF035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1CFCE-7BCA-4068-9185-F56418DB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2002C-163F-4314-8447-7EEE68EC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B1926-987D-4E59-B357-30DC7C3E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6F3C5-39D8-4F1B-B130-D4430A33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0D9D3-660F-4333-A66F-3CCA25AF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D1546-51BD-49F7-9D50-2EBF337C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800CB-690A-480F-96A7-1A532AA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1BBA4-3198-4AC9-8A78-51D51CE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3FB62-0940-488A-9E35-93F5D787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5122-BC7B-419C-8C5E-83C1D90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6D9B9-7652-46D3-83A8-CD39A5A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B208C-46E6-46A2-A41D-82A2C07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2F1B4-D5FD-472D-A3A8-73E2687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DC5C7-7003-4653-A677-CD6F73C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336FC-7248-46F9-9892-917A2F2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9384F-43DC-42F2-B71A-1AC0005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BF333-00A8-44D7-BA12-B7FD8685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ABE9-6A20-49E6-83B9-F0FC1AC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DCAC-D077-4554-85C9-E4767457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201B-9FC3-43A0-A7BE-67672083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F80D-06D1-4CA7-82E9-50F6B9CA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822B-737B-4F6E-B3DA-8CD2ACB9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86E8-83CE-425F-917F-A76C9E67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B23F-FA4C-4D5C-98DC-B7F5E7E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9492-FB71-4A42-830B-A5EBE12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8EF-9AA3-44BA-B6E9-A018437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1462-8148-4AC3-949F-61D3288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CA42-252D-49C1-9483-7C5737B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9412-7550-4A66-AA79-B569759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466C-D9B2-478A-A756-B6356E2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1E7F-23D7-4F08-90E8-E1644778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ADEE-BB83-43AD-8150-F0C5859D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F3D1-B3C3-4AA5-B855-EFF83B8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885A-3656-46F7-B3F7-ABD29F92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2108-7A49-41E6-8091-706BA20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1897-55D7-4A6B-A93B-C7EEE9F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7F7-F6B4-4D06-9E72-B70881F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692E-078C-4CFB-9ADF-E2E7E874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0A486-82F3-4E96-952F-A4E16CD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80B3-C2AF-4476-B37D-7FC43432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25CA-A39F-4C72-9683-E322CAF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B6FF-EDED-4A05-A6AB-2BDF641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3144-1FC8-4FA4-93D9-2100040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BD4C-60BC-4C61-979C-340B10F8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A7AD-E916-426B-ABB3-51215F21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53C3-BCBC-40F4-AE62-C38FE3D2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21D1-A446-43D8-896B-DB9BE6A5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D86-FE76-4BA0-A17E-0D6BF8C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9148-7956-4B85-9AF2-23C2D7E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CB27-8E26-4DBA-89ED-6332619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4FE6-088B-4710-BA9C-5CAA69C6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A36A-1511-4B60-BA46-08172BE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B762-A3D4-4AA7-B973-0F05565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3D3A-D369-46DB-9BDB-1A291A3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4E0C-8489-4A97-943C-620C8EA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A6C5-A9AF-4081-A998-9422045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0B59B-D7F5-4183-AABF-96E6C5D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07D3-1B4B-4115-A739-2A4CBF52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191-F0FD-4CD8-B504-E49ECBB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7911-F45A-45C8-BA13-F8A8A8E4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CE1D-B7D8-40BA-9DD6-DBCE1072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B2DD-D3FD-46EF-9DC9-2A4A1B0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6E23-E767-4BD9-BA28-0D350CC6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489D-02D4-4D6E-A992-02E832A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F081-C3BA-49C2-8370-D5BF709A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DEA3-5E07-4036-B012-49E931E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B520-C52D-4C4F-B0E8-8BCA629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0300-5C76-4374-BE38-83FF567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3E6B-8038-4461-A798-DCD35E1F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794-D369-4BC0-8357-35E7F6D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4888-E7B1-4783-B00E-FE6C356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B895-B522-431D-8439-42F894DC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3267-7440-492A-88D3-E519B34A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B025-127C-4620-8306-4FB4860C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78CC-D931-45D1-8A71-5EFAC87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B52A-B5DB-4D22-9731-5CDA75C6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7492-2850-457C-9F4E-2224765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4F89-B7D9-4116-AFCD-E89FC4D0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FA5B-4949-4F89-8767-A8D46086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22EA-F34E-46C3-9922-5D201D9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EC5-DDBD-4673-8B03-2830E3E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CF65E-309E-432F-880E-384E65A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5DE5-9823-4CCC-A827-6BB56C7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79D8-39AC-4911-960F-B588603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4E03F-13E4-4646-ADCE-D734F63C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9326-69AE-4762-9076-9A081FCC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FC63-2FFB-4C7E-8E55-3E5ACAAB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24F39-3C6D-4DC8-A511-6B1C338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7463-AE02-494B-A258-14132B5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6583C-3E26-498F-9E83-E6911B1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5EB5-7BAD-45BB-9E43-0A46A22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659-6CB4-4D96-9FF5-5515B26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F071-C9D3-4CD2-B8E0-7034099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EF64A-A295-474C-851D-2FCF7BA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7004-CEA2-4022-973A-12C0074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717F-3844-4C9D-A234-6914F72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2DD1-E626-447C-82F8-52D7C1E1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81EB-7D4E-49ED-8CB5-8DD1F398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FED4C-3512-4837-9EE7-CEF5AE9F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FD68-F212-406A-823C-CB7F17C9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2311-AF1D-42A6-A3F0-56C0FF3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9CC10-07E1-4B2A-ACE4-031D9A1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A69-922B-49FE-BB9B-F4FB34D601BA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555-C3EA-492D-9BF4-280762B80199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BDFE-9233-4615-8C7D-1D36AE95168B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B5B-9380-4CC6-87BB-135C0038505B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C31-7C02-4464-B3F5-14931D8329E7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542-6136-4401-8DE4-2A20710483FF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0188-990C-430B-8092-795490DA7F6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ECD-5C18-4AE6-9FF9-D1D84B3401DE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F67-4E0D-49BF-A486-5FD1FED19C74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5F0-9248-4805-802D-F826E051608D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4AD1-9295-49B2-87B0-81FE7EE8086F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07B-7BE8-4D1B-8050-B8CBD1D0C80F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58F2-7CDE-4317-9A08-B3410D46E29D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8ED-FE12-40AC-804E-5C00AC83A385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A1A-38EF-46AF-996A-B70F1C90EF29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FDE-2F69-4E2A-9178-165C47D8FDF1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C66A-BF2B-4BA1-9974-55CF42499D42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D47-8976-446C-9E56-3F3BF3B8A454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0" y="2882880"/>
            <a:ext cx="882504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НТРОЛЬНИЙ ПЕРЕЛІК СПРИЯННЯ ЯКОСТІ ПРАВОСУДДЯ ТА ЯКОСТІ РОБОТИ СУДІВ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1120" y="4393800"/>
            <a:ext cx="814392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-р Пім Альберс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Експерт Програми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SAID 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“Нове правосуддя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Як збирати інформацію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евні дані/інформацію можна збирати на національному рівні: Міністерство юстиції, Державна судова адміністрація, Вища рада правосуддя, Вища кваліфікаційна комісія суддів, Національна школа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ші дані/інформацію слід збирати на регіональному/обласному рівні: територіальні управління Державної судової адміністрації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Останній рівень збору даних: вибрані суд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ля кожного питання/теми в контрольному переліку слід запропонувати компетентний судовий орган або орган юстиції, який має збирати інформацію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ропозиції щодо установ, які мають бути залучені до процесу збору даних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290520" y="2158920"/>
          <a:ext cx="6978600" cy="4554720"/>
        </p:xfrm>
        <a:graphic>
          <a:graphicData uri="http://schemas.openxmlformats.org/drawingml/2006/table">
            <a:tbl>
              <a:tblPr/>
              <a:tblGrid>
                <a:gridCol w="4133880"/>
                <a:gridCol w="1050840"/>
                <a:gridCol w="914400"/>
                <a:gridCol w="87948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 Доступ до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ржа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і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легкого доступу до інформації про суди? (наприклад, через веб-сайти)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судові рішення загальнодоступними через базу даних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інформування громадян про їхні законні права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доступна інформація про суд багатьма мова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надання правової допомог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система збору судового збору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на сплатити судовий збір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загальнодоступна інформація для громадян про те, де можна отримати правову допомогу та захист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уть громадяни легко дістатися до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доступності суду для людей з обмеженими можливостя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безпеки та доступу до приміщень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підвищення якості та зрозумілості судових рішень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7645320" y="2340000"/>
          <a:ext cx="4249800" cy="2743200"/>
        </p:xfrm>
        <a:graphic>
          <a:graphicData uri="http://schemas.openxmlformats.org/drawingml/2006/table">
            <a:tbl>
              <a:tblPr/>
              <a:tblGrid>
                <a:gridCol w="568440"/>
                <a:gridCol w="3681360"/>
              </a:tblGrid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ють збирати с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нформація, яку мають збирати ТУ ДСА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є збирати: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іністерство юстиції, Державна судова адміністрація, Вища рада правосуддя, Вища кваліфікаційна комісія суддів, Національна школа суд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11"/>
          <p:cNvSpPr/>
          <p:nvPr/>
        </p:nvSpPr>
        <p:spPr>
          <a:xfrm>
            <a:off x="11160" y="6210360"/>
            <a:ext cx="8967600" cy="27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9121680" y="6191280"/>
            <a:ext cx="3081600" cy="27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4557600"/>
            <a:ext cx="8978760" cy="1660680"/>
          </a:xfrm>
          <a:prstGeom prst="rect">
            <a:avLst/>
          </a:prstGeom>
          <a:solidFill>
            <a:srgbClr val="0d0d0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9121680" y="4557600"/>
            <a:ext cx="3078360" cy="16606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1120" y="4714920"/>
            <a:ext cx="81280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Загальна інформація про контрольний перелік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42600" y="665280"/>
            <a:ext cx="8325000" cy="35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 був перший документ, розроблений робочою групою з питань якості роботи (GT-QUAL) Європейської комісії з питань ефективності правосуддя Ради Європи у 2008 роц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й інструмент розроблений для збору інформації та здійснення аналізу відповідних аспектів, пов'язаних із якістю правосуддя та роботи суд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На відміну від інших моделей якості роботи суду (як-от: системи судової досконалості), він зосереджується на трьох рівнях: національному рівні, рівні суду та рівні окремого судд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8785080" y="0"/>
            <a:ext cx="340704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11" descr=""/>
          <p:cNvPicPr/>
          <p:nvPr/>
        </p:nvPicPr>
        <p:blipFill>
          <a:blip r:embed="rId1"/>
          <a:stretch/>
        </p:blipFill>
        <p:spPr>
          <a:xfrm>
            <a:off x="-324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3" descr=""/>
          <p:cNvPicPr/>
          <p:nvPr/>
        </p:nvPicPr>
        <p:blipFill>
          <a:blip r:embed="rId2"/>
          <a:stretch/>
        </p:blipFill>
        <p:spPr>
          <a:xfrm>
            <a:off x="0" y="1959120"/>
            <a:ext cx="9107640" cy="3204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15"/>
          <p:cNvSpPr/>
          <p:nvPr/>
        </p:nvSpPr>
        <p:spPr>
          <a:xfrm>
            <a:off x="0" y="609480"/>
            <a:ext cx="91076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7461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опит і пропозиція як точка від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80760" y="2336400"/>
            <a:ext cx="7461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ропозиція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rebuchet MS"/>
              </a:rPr>
              <a:t>: 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у центрі моделі – питання стратегії та політики, щоб наголосити на тому, що стратегічні, операційні плани та плани політики знаходяться в самому серці функціонування сектору правосудд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Кадрові ресурси також входять до моделі, оскільки належне функціонування судової системи залежить від якості роботи суддів, прокурорів і працівників суду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крім кадрових ресурсів і стратегії/політики, модель зосереджується на ресурсах. Для забезпечення високого рівня якості роботи необхідно достатньо ресурсів (бюджет, ІТ, інфраструктура суду)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стання складова моделі стосується функціонування та процесів. Вона пов'язана з різними видами діяльності: від підготовки справ до написання проекту рішення та його виконанн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опит: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 модель наголошує на важливості врахування попиту (відвідувачів суду). Як і в багатьох моделях якості роботи, тут також є потреба в зосередженні на користувачах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Модель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84800" y="603360"/>
            <a:ext cx="626112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9639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Використання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Користувачі контрольного переліку можуть робити відмітки у відповідних комірках, щоб позначити, було охоплено це питання, чи н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Якщо питання не було охоплено, контрольний перелік може допомогти організаціям в розробці нової політики, зміні існуючої та зосередженні на конкретних питаннях якост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ійові особи: органи правосуддя на національному рівні, регіональному рівні, на рівні судів та окремих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Зразок частини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2314440" y="2092320"/>
          <a:ext cx="6863040" cy="4341960"/>
        </p:xfrm>
        <a:graphic>
          <a:graphicData uri="http://schemas.openxmlformats.org/drawingml/2006/table">
            <a:tbl>
              <a:tblPr/>
              <a:tblGrid>
                <a:gridCol w="3660840"/>
                <a:gridCol w="333360"/>
                <a:gridCol w="374760"/>
                <a:gridCol w="577800"/>
                <a:gridCol w="787320"/>
                <a:gridCol w="112896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ідвалини функціонування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застосо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СТРАТЕГ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.1. Організац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Чи є державний орган (Мін’юст чи Вища рада правосуддя), що відповідє за розробку стратегічної політики та її впровадження для судової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Чи існує законодавство, що підтримує суди чи організацію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Чи існує на конституційному рівні (або на найвищому рівні ієрархії правових норм)  гарантія захисту незалежності судової влади по відношенню до законодавчої та виконавчої гілок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Чи  існує  політика, що стосується спеціалізації судів і суд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Чи визначаються цілі (якості роботи)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 існують  стратегія та політика визначення потреб і планування ресурсів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Чи  існує  політика щодо структури та юрисдикції судів, включаючи політику щодо географічного розташування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Обмеження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1120" y="2336400"/>
            <a:ext cx="7920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охоплює надто багато питань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Обмежене практичне використання для розробників політики, судів і суддів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а застосовується в жодній з держав-членів Ради Європи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має потреби включати рівень окремого судді до контрольного переліку, зосереджуючись на політиці, стратегії та управлінні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обхідно спростити контрольний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А також реорганізувати ключові питання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може використовуватися для визначення браку політики в певних галузях та надання опису основних реформ, реалізованих у тому році, коли використовувався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7" name="Afbeelding 3" descr=""/>
          <p:cNvPicPr/>
          <p:nvPr/>
        </p:nvPicPr>
        <p:blipFill>
          <a:blip r:embed="rId1"/>
          <a:stretch/>
        </p:blipFill>
        <p:spPr>
          <a:xfrm>
            <a:off x="8566200" y="233676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rebuchet MS"/>
              </a:rPr>
              <a:t>Переглянута та спрощена модель контрольного переліку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4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24320" y="639720"/>
            <a:ext cx="6461280" cy="557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Новий зразок спрощеного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382680" y="2043000"/>
          <a:ext cx="11318760" cy="4496040"/>
        </p:xfrm>
        <a:graphic>
          <a:graphicData uri="http://schemas.openxmlformats.org/drawingml/2006/table">
            <a:tbl>
              <a:tblPr/>
              <a:tblGrid>
                <a:gridCol w="6670440"/>
                <a:gridCol w="1833840"/>
                <a:gridCol w="1533240"/>
                <a:gridCol w="1281240"/>
              </a:tblGrid>
              <a:tr h="455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. Стратегічні, (операційні) плани та полі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ржав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гіональ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</a:tr>
              <a:tr h="758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є державний орган (Мін’юст чи Вища рада правосуддя), що відповідає за розробку стратегічної політики та її впровадження для судової влад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, що стосується спеціалізації судів і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планування та виконання бюджету судової влади та окремих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щодо географічного розташування судів та розподілу юрисдикції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і для судової влади визначення місії та баченн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2206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а політика інновацій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80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яють і виконують суди (річні) плани з чітко визначеними цілями якості робот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812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розподілу справ між суддями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2134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вимірюється навантаження на окремих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2T08:13:29Z</dcterms:created>
  <dc:creator>Pim Albers</dc:creator>
  <dc:description/>
  <dc:language>en-US</dc:language>
  <cp:lastModifiedBy>ignatchenko</cp:lastModifiedBy>
  <dcterms:modified xsi:type="dcterms:W3CDTF">2017-04-24T08:21:26Z</dcterms:modified>
  <cp:revision>26</cp:revision>
  <dc:subject/>
  <dc:title>Checklist for promoting quality of justice and courts</dc:title>
</cp:coreProperties>
</file>