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F6A-FC0F-4490-A68A-9D22BA96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9FE-F38C-4A11-BE7B-1A6F7588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2ACB1-DC9C-4DE5-B955-4EBA88C9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14763-3E65-47D0-9AEF-60CC3B95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38165-D802-41AA-A536-D4B5BAEB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B65AC-5776-4579-B5DE-2847580A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F9C77-4191-4ACE-BC3A-F4354E65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1D8A0-B41C-4584-BF39-377B6D9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0FF6E-05C9-48DC-B475-D4C4364D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78523-D259-4E12-B510-84AF024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A04E5-FB38-49F8-A175-98C7B8929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EE946-FCEA-4593-9A64-471240C9C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7FA-D9C8-49C0-856D-7B47D9ED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61795-60A0-4319-9214-8EEFB3DD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8AD97-CB1E-45A7-9927-9A49C9E8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90FD5-55A3-4FCC-B52A-8C68C269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5E589-CF3D-40CD-A83A-1CDCD0D5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C566D-83E3-4E3A-960D-CF782A3F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E930B-6064-4131-AE5B-A034DAA3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5F110-C043-47A3-B35F-D4336C5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A3B86-0CB0-4AA5-AB9E-F5741461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AD166-44F8-4357-90FC-EBCA8B8A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36690-5659-4C16-AF16-D6971A44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E66-8844-4608-B212-87BC9DC8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4DDF7-B518-4250-A9A7-FB6126D9B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918888-E6DC-4ADE-B2BB-13318AD8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847824-DCB1-4680-9E01-EBA6786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672DC3-490D-4BE3-B076-8DE1D14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C1C421-BBC2-4118-A62C-24AF59C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A66DC-BC72-4C62-8433-591402D3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2B557D-6092-44E2-859A-E80113A6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C2892E-4FAE-4688-9B31-0D29EBB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225C91-D192-4086-96AB-0DA35F3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3EC068-689A-494B-829A-41F8399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570D-9149-44C7-8901-FEBE98B5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261883-B320-4835-ABE1-7935A886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ABBC87-4E02-4AAD-8190-9842B1B1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90F531-E032-4760-AE09-36D62127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36F85-F40D-4C3C-AE36-236E1AC3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6DD3C-6AFA-4305-8DE2-4823C645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72715-8360-4A8B-9EB2-03D10B5C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D0885-0909-44A5-BD35-83BB7DDD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76484-107D-420E-A1B8-EEDFD07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E15E3-3356-4B93-844D-432FC17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5B949-EA02-4533-BB92-26B4743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124A-8B73-45A9-96CE-2D45EA0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4F44D-D234-49E0-B2FF-68554A36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399DA-B256-463E-874A-30FE7F6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8EACD-F699-4E27-89F0-D6C9CF8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DD75D-9091-4CDC-9FCB-45067EE9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7E2C0-100E-4538-8936-3289B3EB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0876E4-248F-40CF-AA5B-222EB0B7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C8D839-C6CD-4612-AC71-F3378C58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FE6826-62BC-4AA6-B181-AD082544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3FBE0F-62AA-4986-BC9D-FFE4A544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8D646C-307C-4EAB-90B6-ED51EE02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4180-7D74-44DF-8A1B-F8732BE9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E4747E-101D-469B-AE0F-EC18A657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436579-7D6E-4E10-B375-9B6AAAAC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ADDD8E-B490-46E0-A642-A032B15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D96E3B-3977-4436-9274-8BCEFC3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AAAA70-DED8-4A80-BF77-59D90A3E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5BD2F9-F433-41BB-AC02-691F1C4E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22DA42-4853-4322-A728-45CC9FEA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7AEDE7-D3DC-4B95-B4F8-91736741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E957C7-B5F7-43A6-8F57-DE3B933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9FFF2C-2FCC-4353-B3D7-0112B318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4BA-26A4-480D-9CB4-8D1A2557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62DB89-76CF-4AEA-B4C9-48F1026B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053EF1-F197-4757-A2C3-000F2A3B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D47B91-FC9C-4443-95AA-3F70717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DEAB02-016E-4F26-92B9-2E79907D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EC8FC0-6558-46E3-90B9-6C80244C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6018A8-4946-4570-A93C-E5D088B9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723A72-4336-4E37-960E-DA988C47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BE5C18-7E0A-4BCF-8099-371EE0C1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6B3898-4D1F-460A-8003-A30FBB05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C8E61-37F6-4D1A-B89B-AFC74D317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77F-6863-4543-89F1-D4D03BF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82F48-E812-4449-85EA-67647BEE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6545B-A6F3-48F3-9D65-43067F50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13C61-3148-4A7C-8ADB-64185D41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E484B-16F7-4C74-8769-AA6B66CB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B213E-85D0-4313-A0FA-4B0D6CD9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C5033-6E12-4118-A9F8-DBD83962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8CE13-53F4-4749-918B-3F7AB645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A7766-C5D3-4B62-BC46-5435D80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D2650-2510-416B-8479-D00AEF6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550A9-B30A-4E92-9B5A-9597130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9C4-6467-4479-A9A4-9A4D8A90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3AFE9-EAD6-46F7-A4E4-0365E3DF1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B5DC69-E663-4524-8945-8B20606C5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EA8602-90F7-4865-8B0A-938F506E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E029E3-8A40-4B0D-B612-BE3A48D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70A78F-5213-4288-9BFE-C366459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52E8D4-FE1D-4532-8771-77C06148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99BB66-A4E5-44F2-9CE7-89F4AFE6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9D9F4E-E593-4D49-9A96-68A28E9B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F078AB-48EA-443B-B21B-487F4C3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336036-660B-482C-9274-D68C7E50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93CB-86A8-407B-A035-3C679E6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1DD8C4-67CD-4010-8E2D-C36A968D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230CCD-B6C4-49C9-AC28-D6E1078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526A24-16E6-450F-A271-F0DA0ABA6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FAF23F-04AC-4E3D-A8D1-42E8E274B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DA8B64-AF69-467A-90B2-329FDC57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FDDCA1-CF6B-44F3-81E7-BC69915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2F8880-0812-4404-8082-696C056D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B9A336-7758-4A63-BD32-B1ED9C12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84FA34-BCCA-4938-925E-9929217A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A2FA1E-E1BE-4F85-B4BF-BBDC2C3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816-A348-4478-8747-101475E5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153E-D974-47D6-8D78-28833CD2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D638F6-8296-41D5-B44A-E2A72F62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9159BC-DEC1-468B-86C2-40252489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3FABCA-90F6-4C17-BF5E-E9AE224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10F6D6-E709-4A08-B1C4-2AD8C4C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AF80CD-6C5F-4EE4-85F1-D3FC880165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C17BC0-337C-48E1-A4D8-33CD3FEE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AF8D53-AC6B-4F3B-863A-0629046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5B3846-5DA8-4F91-B87A-573699A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AD2A20-57C3-47B5-87D9-D7847748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376EF4-2F13-41B0-A57D-5CB2E41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8D3D-0EC4-479E-A042-2643796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9E89C1-B6F7-4802-B1D9-D5E74710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735B227-63AB-4A6E-A8FA-E857079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E6B5D6-2FAB-4F1F-96F8-16C4799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D68FC9-8C78-402B-B4AB-47A9A2A6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B3DDEF-DDEE-4E62-9CCE-79A3CFD5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292C64-D2AF-4804-8862-3ECEBE09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66E203-AD54-44A6-B976-E4518E6D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A29F9F-A3E5-4319-B359-5963FDBE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1B2319-E848-4D4A-AA0E-64D7C623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69D897-FA64-4C7B-813B-21D28AE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573B-87CC-4A74-AB33-5CCADF55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06F895-330F-4E85-A7DF-1236A058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9E77B7-CD3E-4B8B-A2CA-167918D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C4C1AD-FB7E-45D6-AA3B-7E2B9B6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91366C-6D81-490C-9D3A-86C3F54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BB9EAD-D4B8-48C6-83B6-D9CD45A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A03337-773B-47DA-B852-EC1E54D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BD941A-D472-4F20-80C4-DAF270B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933F23-6FD9-4605-A9DF-F3CAF1A9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6B5B2A-EF91-40A8-8D1B-80EE0FF2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ADE538-FCBE-4A08-9975-4F1C9A3F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EA0-EC69-4739-925A-8BA828C2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40DFA3-47AE-494F-9143-60A4C0A1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CCFED6-AE9D-4787-8AFC-9C5AB385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ACE439-9FE5-4099-A096-D472D2F6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1F191E-F675-4822-A6B6-FB5EB72A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89FD1E-768E-4EEF-A274-3C43A04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84C620-7248-4B2A-9FAE-948BFB8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207745-4A86-4B0A-B82B-A2112AB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61B0EFB-99CE-4542-A862-4A64409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FA9BAD-4EE1-482E-AA8A-D462919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011212-D2B1-49E1-B894-687B3152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11AA-D2F3-4A99-836C-97FAFA04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1F8F49-AF29-4379-8AA7-DFD6561E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E2054D-932B-4466-9587-082FE06C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4FE9F7-33FA-4DAC-83A3-29770770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47E67D-90E1-4459-BA06-DA018E10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6774B5-AAD5-46DA-8489-4844432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0A5932-41B3-424D-A4CF-C71B59C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8A6415-1BB4-4031-BAB8-45A3DA53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A2B7BC-7BAF-47E7-9BD2-2BAC3E0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C2D890-D488-4858-9FE2-6A419E14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B5FC52-CA54-4E17-9AD8-CB57C48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6044-0DC6-4F71-B4B7-AD9820FF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D11031-10FD-415D-B5DF-87B5909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8EBBD5-42DE-41D9-8C63-2ED2D507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EB1911-0622-4A1E-B75C-4805944E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0DD57D-D251-4A8D-A748-311BB155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DFC720-7E06-4040-9325-233A4AD3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5AA8E5-B845-4981-A9F0-EF2AFC82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65C23A6-5D12-4572-B97A-C7F8146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2EA972-0B8F-4EE6-9841-8FC8F52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2BDE99-D1CB-44AE-ABE8-4E63E18D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F05DA0-1B6F-4A9B-A609-8653F57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B9A4-CBBC-4320-BFC3-23DDE102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550D5A-9307-46B2-9FAA-DE755CB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2CA074-B171-4924-8FD3-4BA0894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6BD9FF-0CBD-499E-B766-3D644153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B9E8E3-89BE-4FD2-A793-DB3482DF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7073FA-E89A-40B9-A83C-48C8F4C7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BBA160-4F0C-4331-A73B-C47936D1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18A74D-1C65-4F2A-87D1-212CC14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62D007-5751-4427-8404-7EBF84E8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1DF34C-56D0-4F8B-9B8E-10B93A34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447E180-1203-40E9-B518-FFBA113D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719D-7669-46FB-9154-C1E0671F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9A7C24-3782-4A66-9B65-E2E292D4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F5A22A-F4D9-445D-B2B9-79034A6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637009-2AFA-40DC-ABAE-0EEE9B4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927A7A-31E2-4020-B72A-08C23A3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037B70-AD4D-49C3-8B7E-0C7020F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96BCB6-E646-462A-89D1-ABEA92AB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47928A-32E7-4631-B317-F6237DB2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A602A4-65D5-4DB7-9039-D33C373517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142365-4C74-465A-B659-C4648969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E12D3A-C66B-41DE-BFE9-9CC217D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E1BB-1283-4AC4-8863-290A6DF7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6F569-2184-4E75-8126-3C2562B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898B72-A0D7-471F-A56B-C7570AB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55A3A-A4BE-4D92-ACF3-E4F6C4B0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AAE1B8-2245-4C0C-8A9F-8851182B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97B81D-BCE8-4201-B06F-A790760C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9F7EF0-DFE2-480F-B92C-6CAE948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64F9EB-4AAA-4C3E-9AF1-7E50975C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ABB4CF-53F6-4BB7-B360-E24414E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75EBF-FFD2-4987-88E3-BE4B5E529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3A0699-DEDE-48FF-8B24-35FD62B24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E8A8-2945-4C43-B365-8641413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DDC2CA-F8C6-4E98-B265-57C431F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0662D1-DB82-48FB-B728-B318D2A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5AE783-1994-4E26-B127-515DD48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0D4E7D-4B05-4A2E-A4D2-CAF1DEE5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B2A8D3-58EF-4CF0-8991-7D0D9D04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17A524-A2EE-43E9-AEB2-680BD8BD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0A421E-789B-4C10-BBE5-9803DD1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08509E-01CB-4970-B9CD-210C7A34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FC128F-0B31-4EAE-BDAA-0A5A18E5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E324912-C8D3-4D2A-807D-FB2B744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A0A-78D7-4960-9D4C-82B9F411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D29E-2EFF-4615-9555-05BFCDC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093E98-39DF-400B-A29A-2D89E259D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15841C-9012-423D-95F1-D3AE77C0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4CF279-D7B7-4593-BF0C-57E4B570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CC0F7E-604C-4DC9-803D-964BC094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C7C280-21D9-4062-8A35-16A5695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0EE0E18-70D1-48FF-AE15-ECF3483C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4C4B42-9496-4404-AEAC-AF05E1EF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093129-FB8B-4A29-A231-C168ED5E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F122B1-3408-4E78-9D5D-649543F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1B450E-B5D6-4D3C-B45F-694A49A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0557-983C-40E8-B7F9-0FB18C8D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AD9E841-CB64-4C3C-B3DD-B60FC56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2661F6-8EE6-473F-952B-478FCB0E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83F067B-6BDA-4B08-9659-6C21F440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021D36-A3D6-40B5-9C3F-7CA73DDC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8B2FAC-910A-4CEC-B266-C71790B5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D63E00F-A70B-4EFC-ADF0-E22C800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91D257-A091-4E65-A2FE-EACEB327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ABC9E9-A991-4DB4-9E16-3FF11F3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576876-C01C-42F6-A520-BA81742B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8D4A7D-58C2-4D99-91FB-B8B2AE9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E483-7C2D-46B7-8091-C2386A1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F8AC77-BEA6-4742-8C9A-C4F2ED8C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91D798-01B1-4ED4-9F12-27462D9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30DCBC-0088-4CFD-A4F1-E71E151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80DEDA-31DA-4AF5-A83E-4E17D34A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D170F2-EA4D-4BAD-A58B-15359C1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DFFE00D-17B7-4377-8B72-B3A4B093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D21032-94BC-46B3-ABC4-65AD3740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AA8EEE-22AC-4548-93FB-A200562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8BEC13F-7096-4DD0-BC9D-EC6D50F1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E0C7F79-073B-4820-BF7A-0C2FBE4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D37F-43EC-4056-9AFA-49F0A17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7505A6-6130-453C-9B3B-0A00CE0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55622E-2F88-40CD-BE11-A219D88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F9738DA-1CAB-41EF-9C72-F127219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6DF8A9-31A1-4A56-A1CF-8748C9F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211AA3-1EBD-432C-A102-27D0C389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0BC42E6-7F68-49D4-B977-AB7FE9DA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3A6E8F-88F7-4B21-9440-D5C67005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65F4B0-F37D-4AC2-B090-64B202F0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A0EE99C-F6FF-45F4-A15A-749AFD7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79D222-587D-4825-A5C3-555C06A9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A727-C025-404E-92A9-E56CF0B8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6E0E2E-622D-4466-ACC2-FFB22E58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35E201F-D92D-4630-B8B3-7FEC6E3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586F523-DD88-4D35-8388-AB017AC7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5F9D544-3CD3-4195-ACB6-7BFF9BC4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98423BB-457F-45F6-84C7-4ABFC75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9524057-D4C1-4042-8CAB-2371E30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595B509-CFE2-4652-AC6D-22DC455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E95E91-029C-4DAF-A0AA-18EA61FF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05E109E-B05B-437A-9BEC-0EE1A975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6479384-C3C0-4CD5-81AC-BCF1FB757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D1EA-EA77-4B87-B43E-75782E3C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84BA0DE-DB11-42E6-9E20-6B8D4BF2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3709E4-0092-4908-8E0A-0F959974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6BDE11-AAC5-42F9-AB8E-D436DE6C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BC7C1CF-746A-4688-95D8-B5FE8A98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C2F449B-8A2F-4A62-92D2-622C2D1C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AAA581-2F55-464E-9148-8F5A511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DB8F46F-B927-4496-BE95-DBE13632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79C2E0-3FC1-4386-BF62-682FE350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A55DA3-FBBB-493F-A87D-8576E91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FF692B7-5673-4CBD-AB36-0327626B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8B7C-E94D-4AAB-B2AB-297F3984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78DA74-5309-4786-8863-69734F12D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6293C0-F3D1-4F67-90D6-176D409EC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EF10D3-CC59-4FD1-80FE-16F64DE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87D977-9F96-48A0-AF17-B423AF2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186031-AE7B-4EF0-8FC2-92B71D80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93A532-C662-4B93-A667-92141417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A2B906-1D5A-430B-9A0C-8CF75D6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8E7E8F-5C11-4EBB-8057-AB59D96A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4BFA0B-4B90-4F62-A4D4-DA91D75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844EBA-E0C5-405A-8773-AB565A54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1E75-E140-4CCC-8A78-7552466F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FAAC8F-A952-444D-BCF2-BDD4ACA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70AC01-AED4-42AB-87B1-76C2280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E695F8-87E5-442D-AB90-43489DF09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8E64-451F-48F4-8C14-5B09ABCB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79BB-544C-4B06-89DB-8E3E246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1A7-A81D-4FB3-9680-B0C31D36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13E6-25E8-42FA-B74B-108614E1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E544-9995-4C46-92A1-4410123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3A1C-CA53-4320-8760-390745C4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B322-BFFD-4F06-A2A5-360C0CD4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5E0A-8D2F-4908-BA6C-0DE220E9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DC80-E8CE-4E9E-B6FE-F471262C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EA44-A990-4DD1-910D-6DFFC10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7A41-AD68-4E7A-BD79-5D75A512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5CD9-D0FB-408E-8374-82A9BE8D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142F-F62B-4542-A2BA-6E7E5259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FEC-81A6-4FF6-83B6-B897318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B440-17CF-4F4C-9DCF-149A474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CA505-CF7B-4449-B159-FA028376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CD9F-8C7B-4AD5-B3C1-4B592FD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3E8B6-8B20-47FF-8678-10CDE253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7A7AB-84DE-4DDE-BB39-C5C97BD9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FC67-6BB5-446B-9D29-31C026F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DE19-B4EE-4337-88AA-50E3DB8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E58E-4B29-4E77-BD40-F860EB2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FC09-67DD-4D06-BA9F-7955CAEA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7E3C9-3C1D-4EFF-8B43-22E2DFDF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E21-80A3-4480-BD5A-C667B7B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180D-0E2B-4607-B2CB-F1AED74C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2EAB1-6D8B-4D08-B72F-66DF7210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112C6-F21D-42BD-BB2F-3B7C29E6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5D6E-FC26-4C5B-877E-A5951175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D1E2-B388-47E9-A98C-ADC69E1E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73D3-9CEE-4746-93ED-3D590E5B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58FF-5AA8-4A0C-8C6E-6A564F5A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B1B3E-892A-4830-A2A4-32F823A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16C6-03C1-41BF-881A-8E1DAC1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9CB8-F037-4811-AB1E-5FD5E0D8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2F4-C706-445A-BC79-5A0AA7D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208E7-B10B-470B-830C-AC10372A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E9DE7-47EF-4C12-92AE-B0AD82AE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4124E-A65A-4504-B851-48B53F83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7434-B357-4809-B56E-6633608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0C9E-49F0-4F7D-84F1-DF3B0AD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271D5-93CF-4B03-824A-B4A45529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09616-665C-4E55-B247-E4FFCDEC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527E-2CA3-4F65-BB64-794566EC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162B-6EEE-4011-8406-70E513B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16DF-29F5-4765-9354-F374E34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36C-5F22-4DB3-9882-696D76F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DBA22-7C54-4B40-930B-F07E15E6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4606-7659-4C1C-AC9F-E071511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C05C-9E36-406E-A8A9-6767E7F4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33D8-0347-4418-92FC-5ED63C6D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84BE-EB99-471B-BFE4-0B957557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B00EC-6B00-4EAD-98CD-51014C97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5FE4-3C34-4750-B0D7-65C09647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8B233-06D0-4B2B-B9ED-C992049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7F384-8F68-4928-8DB0-769FBF7E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1EA39-EC77-41E5-9054-9F4F4DE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B4F-AC20-44E1-88C9-7F16F97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8E00E-45A2-4914-8B4B-2DDED0D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9EF65-1F1D-465A-B182-C763FD7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17364-156D-4715-B4F6-A6BBBB1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79B21-A8D9-493D-BC76-E3007E9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58C7B-D8ED-43B5-A61C-2B9C7BE0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B567E-F6A1-4873-8E75-5A15A976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B1EF-F7C8-44A3-9035-AD0BC2A4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19922-2013-41EE-AF5D-3A4DACC61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6030B-2CD7-4344-92D2-0EE463B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9AEF5-CFA0-4E90-AF3D-941719E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35c5b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35c5b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35c5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35c5b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35c5b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35c5b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35c5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B4E14-C9DB-40F0-A253-45A7AE1DC312}" type="slidenum">
              <a:rPr b="0" lang="en-US" sz="600" spc="-1" strike="noStrike">
                <a:solidFill>
                  <a:srgbClr val="635c5b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8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3573C-9527-46FC-8622-5C0CD15E91E4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9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0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1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C30F5-0C37-4E6F-82FC-57B49E140A0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2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3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4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C9AFF-BCFE-4AF1-9797-A6A374BCC5F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5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6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7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35D2B-4778-496B-9635-C5AEA401BA7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8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9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0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B000F-953C-4DA9-997C-CA9F9BF7CC7B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1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42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900DD-0197-49BF-8850-7CD7B11F0AF8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4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36E09-4AFC-4E8B-9028-66728D45302A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Placeholder 9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USAID_Logo_White_v02.png"/>
          <p:cNvPicPr/>
          <p:nvPr/>
        </p:nvPicPr>
        <p:blipFill>
          <a:blip r:embed="rId3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678" name="Straight Connector 16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4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5F31D-DB75-43ED-B5BD-C13B9EA4B961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USAID_Logo_White_v02.png"/>
          <p:cNvPicPr/>
          <p:nvPr/>
        </p:nvPicPr>
        <p:blipFill>
          <a:blip r:embed="rId2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15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8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9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22E48-7D95-451C-81F5-CA02D46997EF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USAID_Logo_White_v02.png"/>
          <p:cNvPicPr/>
          <p:nvPr/>
        </p:nvPicPr>
        <p:blipFill>
          <a:blip r:embed="rId2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765" name="Straight Connector 6"/>
          <p:cNvSpPr/>
          <p:nvPr/>
        </p:nvSpPr>
        <p:spPr>
          <a:xfrm>
            <a:off x="746280" y="99072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0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1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2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BE47C-A523-4F2D-AD4A-7654D0B4DA63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Placeholder 9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69320" cy="655344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13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USAID_Logo_White_v02.png"/>
          <p:cNvPicPr/>
          <p:nvPr/>
        </p:nvPicPr>
        <p:blipFill>
          <a:blip r:embed="rId3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EDACD-2B0A-4E33-A2D4-EAC08A43790D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4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5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7F8D5-82EC-4D5B-8624-80339C32CA68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6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7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8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9D0A2-9320-4F6B-A56B-5FC4B3625F2F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9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0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1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F025D-8CA3-4D0E-AE72-EA1536B68C8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2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3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8B42D-5438-4790-A6B2-3CABC61185E2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509D5-EF8D-4619-9B3B-CBDD904745E0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sldNum" idx="68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FFFA7-BE5E-4C0A-B127-2D793A4CE534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9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0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1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1231B-A01C-4FA3-BC36-8643CE9FBA6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2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3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4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38926-556B-4435-9088-419C51250FB2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75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76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77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37D09-0D6B-442D-9788-E8C6F60559E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78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79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80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8517D-78B0-4F26-8801-4DAF1081903B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0c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SAID_Logo_White_v02.png"/>
          <p:cNvPicPr/>
          <p:nvPr/>
        </p:nvPicPr>
        <p:blipFill>
          <a:blip r:embed="rId2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5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26D27-0950-4611-AE99-85DD6FAF704E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81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82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96FA8-29C7-46A6-9741-861E00626920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8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0E29A-196E-460B-BCE6-B5834B67C99A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0c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USAID_Logo_White_v02.png"/>
          <p:cNvPicPr/>
          <p:nvPr/>
        </p:nvPicPr>
        <p:blipFill>
          <a:blip r:embed="rId2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746280" y="99072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B2698-8792-461D-B8F5-1808EE87B387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7844E-F0CF-45F9-AB9E-443D78A12FE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452B0-6883-4A85-A366-83124018F36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085DE-6330-40A8-AA3E-37FD23E856B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8D059-A64D-42C8-8E42-26C5D0D87117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86D50-6653-49A1-896D-C3AAB9A48F57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Date Placeholder 1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90CA-50DC-4734-87AA-9006056EA520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ffffff"/>
                </a:solidFill>
                <a:latin typeface="Gill Sans MT"/>
              </a:rPr>
              <a:t>ПРОГРАМА РЕФОРМУВАННЯ СЕКТОРУ ЮСТИЦІЇ </a:t>
            </a:r>
            <a:br>
              <a:rPr sz="2900"/>
            </a:br>
            <a:r>
              <a:rPr b="1" lang="uk-UA" sz="2900" spc="-1" strike="noStrike">
                <a:solidFill>
                  <a:srgbClr val="ffffff"/>
                </a:solidFill>
                <a:latin typeface="Gill Sans MT"/>
              </a:rPr>
              <a:t>«НОВЕ ПРАВОСУДДЯ»</a:t>
            </a:r>
            <a:endParaRPr b="0" lang="en-US" sz="29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85440" y="4309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Зустріч №1 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Дорадчої групи партнерів Програми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21 квітня 2017 р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11" name="Footer Placeholder 1"/>
          <p:cNvSpPr/>
          <p:nvPr/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B7DE0-8737-4392-8366-B9D897ED94F2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19040" y="-194400"/>
            <a:ext cx="77724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6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"/>
          <p:cNvSpPr/>
          <p:nvPr/>
        </p:nvSpPr>
        <p:spPr>
          <a:xfrm>
            <a:off x="304920" y="741240"/>
            <a:ext cx="830556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РОБКА ДАНИХ ТА РОЗРАХУНОК РЕЗУЛЬТА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плексні (багатовимірні) показники розділені на одновимір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ен одновимірний показник (кожна відповідь респондента) відповідає певній кількості бал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ен багатовимірний показник має максимально можливий б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аховується середній інтегральний бал по кожному багатовимірному показ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аховується відношення отриманого середнього інтегрального балу до максимально можливого у відсот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удується графік та кольорова шк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029C2-212F-461B-8D72-250FDAEAD57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-569880"/>
            <a:ext cx="7772400" cy="179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br>
              <a:rPr sz="2800"/>
            </a:b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Зведена діаграма по країнах ЄС 2014-2015 р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6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Рисунок 15" descr=""/>
          <p:cNvPicPr/>
          <p:nvPr/>
        </p:nvPicPr>
        <p:blipFill>
          <a:blip r:embed="rId1"/>
          <a:stretch/>
        </p:blipFill>
        <p:spPr>
          <a:xfrm>
            <a:off x="534960" y="1266840"/>
            <a:ext cx="8077320" cy="2000160"/>
          </a:xfrm>
          <a:prstGeom prst="rect">
            <a:avLst/>
          </a:prstGeom>
          <a:ln w="0">
            <a:noFill/>
          </a:ln>
        </p:spPr>
      </p:pic>
      <p:sp>
        <p:nvSpPr>
          <p:cNvPr id="1370" name="TextBox 10"/>
          <p:cNvSpPr/>
          <p:nvPr/>
        </p:nvSpPr>
        <p:spPr>
          <a:xfrm>
            <a:off x="1371600" y="3233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1   2   3   4   5   6   7   8   9   10  11           </a:t>
            </a:r>
            <a:r>
              <a:rPr b="0" lang="uk-UA" sz="1800" spc="-1" strike="noStrike">
                <a:solidFill>
                  <a:srgbClr val="00b050"/>
                </a:solidFill>
                <a:latin typeface="Arial"/>
              </a:rPr>
              <a:t>1   2   3    4  5   6    7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1" name=""/>
          <p:cNvGraphicFramePr/>
          <p:nvPr/>
        </p:nvGraphicFramePr>
        <p:xfrm>
          <a:off x="534960" y="3564000"/>
          <a:ext cx="8075520" cy="2895480"/>
        </p:xfrm>
        <a:graphic>
          <a:graphicData uri="http://schemas.openxmlformats.org/drawingml/2006/table">
            <a:tbl>
              <a:tblPr/>
              <a:tblGrid>
                <a:gridCol w="2590920"/>
                <a:gridCol w="2057400"/>
                <a:gridCol w="342720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ЗАЛЕ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ІДЗВІ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2523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Законодавча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рганізаційна автоно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Фінансування судової систе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Управління су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Рішення суд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Непереводим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Внутрішня незале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d2ff">
                        <a:alpha val="35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Сприйняття громадян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Довіра суспі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Сприйняття коруп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 Сприйняття незалежності кліє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d2ff">
                        <a:alpha val="35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Розподіл спр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Процедури подання ска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Періодична зві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Відносини зі ЗМ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Зовнішня переві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Судівська е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Відвід та самовідв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Зовнішня діяль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Зрозумілі процеду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>
                        <a:alpha val="47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12765-EB1F-42A0-81AD-DAC8E7083F3B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-14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br>
              <a:rPr sz="2800"/>
            </a:b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Пілотне застосування в Україні. 2017 р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75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Chart 1" descr=""/>
          <p:cNvPicPr/>
          <p:nvPr/>
        </p:nvPicPr>
        <p:blipFill>
          <a:blip r:embed="rId1"/>
          <a:stretch/>
        </p:blipFill>
        <p:spPr>
          <a:xfrm>
            <a:off x="152280" y="1182600"/>
            <a:ext cx="8839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92532-A02F-4036-987B-925BF2F412B1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54200" y="325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Програма</a:t>
            </a: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 USAID </a:t>
            </a: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«Нове правосуддя» 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15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Diagram 4" descr=""/>
          <p:cNvPicPr/>
          <p:nvPr/>
        </p:nvPicPr>
        <p:blipFill>
          <a:blip r:embed="rId1"/>
          <a:stretch/>
        </p:blipFill>
        <p:spPr>
          <a:xfrm>
            <a:off x="324000" y="993600"/>
            <a:ext cx="8588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7FF01-660D-48C7-B4EE-3E46654CDB0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54200" y="325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Програма</a:t>
            </a: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 USAID </a:t>
            </a: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«Нове правосуддя» 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20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8"/>
          <p:cNvGrpSpPr/>
          <p:nvPr/>
        </p:nvGrpSpPr>
        <p:grpSpPr>
          <a:xfrm>
            <a:off x="184320" y="1284120"/>
            <a:ext cx="4487760" cy="1963800"/>
            <a:chOff x="184320" y="1284120"/>
            <a:chExt cx="4487760" cy="1963800"/>
          </a:xfrm>
        </p:grpSpPr>
        <p:sp>
          <p:nvSpPr>
            <p:cNvPr id="1322" name="Rectangle: Rounded Corners 9"/>
            <p:cNvSpPr/>
            <p:nvPr/>
          </p:nvSpPr>
          <p:spPr>
            <a:xfrm>
              <a:off x="488880" y="1284120"/>
              <a:ext cx="3886200" cy="19638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02f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: Rounded Corners 4"/>
            <p:cNvSpPr/>
            <p:nvPr/>
          </p:nvSpPr>
          <p:spPr>
            <a:xfrm>
              <a:off x="184320" y="1333080"/>
              <a:ext cx="448776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Corbel"/>
                </a:rPr>
                <a:t>Завдання 1</a:t>
              </a: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Зміцнення суддівської незалежності та самовряд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TextBox 3"/>
          <p:cNvSpPr/>
          <p:nvPr/>
        </p:nvSpPr>
        <p:spPr>
          <a:xfrm>
            <a:off x="1471680" y="4246560"/>
            <a:ext cx="6400800" cy="1543320"/>
          </a:xfrm>
          <a:prstGeom prst="rect">
            <a:avLst/>
          </a:prstGeom>
          <a:solidFill>
            <a:srgbClr val="bee2ff">
              <a:alpha val="68000"/>
            </a:srgbClr>
          </a:solidFill>
          <a:ln w="9360">
            <a:solidFill>
              <a:srgbClr val="002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казники незалежност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і та підзвітності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удов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Європейської мережі рад з питань правосуддя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NC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rrow: Down 5"/>
          <p:cNvSpPr/>
          <p:nvPr/>
        </p:nvSpPr>
        <p:spPr>
          <a:xfrm>
            <a:off x="2162160" y="3328920"/>
            <a:ext cx="533520" cy="6238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002d7c"/>
              </a:gs>
              <a:gs pos="100000">
                <a:srgbClr val="acb5d7"/>
              </a:gs>
            </a:gsLst>
            <a:lin ang="16200000"/>
          </a:gradFill>
          <a:ln w="9360">
            <a:solidFill>
              <a:srgbClr val="002d6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rrow: Down 19"/>
          <p:cNvSpPr/>
          <p:nvPr/>
        </p:nvSpPr>
        <p:spPr>
          <a:xfrm>
            <a:off x="6539040" y="3327480"/>
            <a:ext cx="533160" cy="623880"/>
          </a:xfrm>
          <a:prstGeom prst="downArrow">
            <a:avLst>
              <a:gd name="adj1" fmla="val 50000"/>
              <a:gd name="adj2" fmla="val 50024"/>
            </a:avLst>
          </a:prstGeom>
          <a:gradFill rotWithShape="0">
            <a:gsLst>
              <a:gs pos="0">
                <a:srgbClr val="002d7c"/>
              </a:gs>
              <a:gs pos="100000">
                <a:srgbClr val="acb5d7"/>
              </a:gs>
            </a:gsLst>
            <a:lin ang="16200000"/>
          </a:gradFill>
          <a:ln w="9360">
            <a:solidFill>
              <a:srgbClr val="002d6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20"/>
          <p:cNvGrpSpPr/>
          <p:nvPr/>
        </p:nvGrpSpPr>
        <p:grpSpPr>
          <a:xfrm>
            <a:off x="4498920" y="1265400"/>
            <a:ext cx="4489560" cy="1963440"/>
            <a:chOff x="4498920" y="1265400"/>
            <a:chExt cx="4489560" cy="1963440"/>
          </a:xfrm>
        </p:grpSpPr>
        <p:sp>
          <p:nvSpPr>
            <p:cNvPr id="1328" name="Rectangle: Rounded Corners 21"/>
            <p:cNvSpPr/>
            <p:nvPr/>
          </p:nvSpPr>
          <p:spPr>
            <a:xfrm>
              <a:off x="4803480" y="1265400"/>
              <a:ext cx="3888000" cy="196344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02f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: Rounded Corners 4"/>
            <p:cNvSpPr/>
            <p:nvPr/>
          </p:nvSpPr>
          <p:spPr>
            <a:xfrm>
              <a:off x="4498920" y="1314360"/>
              <a:ext cx="4489560" cy="19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Corbel"/>
                </a:rPr>
                <a:t>Завдання 2</a:t>
              </a: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Підвищення прозорості та підзвітності судової вла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22826-A559-460D-9F57-D6B44113855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790560" y="396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 та підзвітності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: 5 базових понять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3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3"/>
          <p:cNvSpPr/>
          <p:nvPr/>
        </p:nvSpPr>
        <p:spPr>
          <a:xfrm>
            <a:off x="434880" y="152388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леж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ь та підзвітність судової системи це одне ціле. Підзвітність є передумовою незалежності. Незалежність судовій владі дає суспільство. Підзвітність без незалежності перетворює судову систему в державну аген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нування формальних юридичних гарантій незалежності (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ктивна незалежність) не є достатньою для судді, щоб бути незалежним. Фактична незалежність залежить від його поведінки та відображається в його рішеннях, що, в свою чергу впливає на сприйняття суддівської незалежності суспільством (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ктивна незалежні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судової системи бути незалежною означає, що судова система є незалежною в цілому і кожен окремий суддя також є незалеж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підзвітності повинні виконуватись не тільки формальні вимоги підзвітності, але населення має сприймати судову владу як підзвіт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звітність, як незалежність, відноситься до судової системи в цілому і до кожного окремого суд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7937F-E067-40D8-BFC9-DA350EF0407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0040" y="-36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 та підзвітності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3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522360" y="1523880"/>
          <a:ext cx="8088120" cy="3048120"/>
        </p:xfrm>
        <a:graphic>
          <a:graphicData uri="http://schemas.openxmlformats.org/drawingml/2006/table">
            <a:tbl>
              <a:tblPr/>
              <a:tblGrid>
                <a:gridCol w="1617480"/>
                <a:gridCol w="1617840"/>
                <a:gridCol w="1617480"/>
                <a:gridCol w="1617840"/>
                <a:gridCol w="1617480"/>
              </a:tblGrid>
              <a:tr h="79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ЗАЛЕЖ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ІДЗВІ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єк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єк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гальне сприйнят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ники не розробле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07431-20FC-4CD7-9B3C-2E3885686EF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О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4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490680" y="1519200"/>
          <a:ext cx="8162640" cy="444024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448092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ві основи незалеж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рганізаційна автономія судової влади (Рада правосуддя або інший еквівалентний орг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інанс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правління судовою системо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дрові рішення щодо судд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можливість переведення судд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дури у випадку загрози суддівській незалеж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утрішня незалеж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B8B03-CB9D-4DDC-A2E5-32583B69655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Су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4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490680" y="1519200"/>
          <a:ext cx="8162640" cy="474516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411516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громадянами в ціл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віра громадян до судової системи, в порівнянні до довіри  іншим гілкам вл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упція в судовій системі, як вона сприймається громадянами в ціл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учасниками судових провад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самими судд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EADC3-8940-4FA3-8202-6E1B341E95C1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О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підзвітност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4" name=""/>
          <p:cNvGraphicFramePr/>
          <p:nvPr/>
        </p:nvGraphicFramePr>
        <p:xfrm>
          <a:off x="490680" y="1519200"/>
          <a:ext cx="8162640" cy="389088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365796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зподіл с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дури розгляду ска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ріодична звітність судової систе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ідносини з пре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внішня оці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декс суддівської е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илучення та самовідві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пустимість зайняття іншою діяльністю поза межами судової системи, інформування громадськості про наявність фінансових інтересів поза межами судової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розумілість процедур судоч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510DF-9E7E-444B-BE6B-2C0AC8DB02D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339120"/>
            <a:ext cx="77724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1"/>
          <p:cNvSpPr/>
          <p:nvPr/>
        </p:nvSpPr>
        <p:spPr>
          <a:xfrm>
            <a:off x="609480" y="2209680"/>
            <a:ext cx="683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ЗБОРУ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тування широкого кола респондентів в режимі онла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тування експер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ання даних з інших джер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20:02:08Z</dcterms:created>
  <dc:creator>USAID</dc:creator>
  <dc:description/>
  <dc:language>en-US</dc:language>
  <cp:lastModifiedBy>ignatchenko</cp:lastModifiedBy>
  <cp:lastPrinted>2016-09-13T10:25:31Z</cp:lastPrinted>
  <dcterms:modified xsi:type="dcterms:W3CDTF">2017-04-24T08:11:58Z</dcterms:modified>
  <cp:revision>148</cp:revision>
  <dc:subject/>
  <dc:title>PHOTO COVER OPTION TITLE GOES HERE CAN  RUN THREE LINES</dc:title>
</cp:coreProperties>
</file>