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C82B-456E-4280-A586-FD80918E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D604-B8F5-48B7-AFC0-9316749C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454F36-B594-4664-BC2F-8526616F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A3FFB4-FBE7-4745-AD46-E2CF1069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FA5FC6-A1C8-4873-A6A3-418523C62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58A5AE-E1C8-4AC4-8E36-0A6492F8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6FFF44-916E-40BC-8A55-FE52A41E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2422D-9C73-44BF-B3AF-C082610D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E9FDCB-4FC2-495A-9C28-9D2E1FDD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B6C1CA-305F-41AF-9492-F3BC2FD7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D850B1-D45E-4625-8448-76A72C22C2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D0506A-A27F-4B78-ACEA-1FBF0E7045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024-B97D-46C9-9AB7-E24EEF7B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9B35B5-3CB0-4DE3-9410-299EB015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ABBB2-4647-4C76-B720-89CA8D62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B76B1-E74F-48DF-878B-BDAAB82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928EC-2354-473A-B95C-2696FB6BF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195928-2C9C-4E10-9E6E-A3F411D66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47569-52CA-4ECB-AE85-69A0886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66BA33-4E6A-4CD8-82E8-2D71CACF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B1944E-CA7E-4710-A515-91DF2C47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01B554-8638-427F-9306-0A9EFA7C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EE9292-B435-40F3-A8EC-AD587D8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018-C9E0-4BF5-BD01-A02C3C67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DAEC0E-2E18-49CF-9E3D-47E39B808C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4DFD3B-6725-4C95-920E-0B27E6F2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D68CE5-F504-4A8D-9C15-EB06C208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BD9FC71-AFE7-4B4D-BEAD-F9A11AF5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94204A8-8DF2-4102-A2B6-542C68D2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B66752-DBD5-420D-B17A-E34AB19BE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D78BD3-79E6-4A27-893C-BEA39EB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45F210-1A37-4560-8460-7C355E3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D4ED37-02D7-4B56-BE06-6E43905F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F5224D-35A9-4EBB-86A5-813E51B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E7A-D9AB-4110-853B-A6FD94A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B2F4D4-4A42-4D39-B779-FCC20B6D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EAD031-039D-4E9C-85FE-7C72CC242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163E23-28D4-4BA9-B0C1-7910D541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16738D-1E75-4C6C-A337-D0B385857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58603-423D-43D4-8F4D-9ADACD7F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D38C5A-1A5E-4356-B6CC-36687DA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FBB489-D3E4-47B5-AD38-A7900181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0DCEC-F4D5-4F82-87CF-8853414B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5F491-53C4-4B97-A0BA-50BA1BD4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EF0457-147E-42CE-8C12-8512C94E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1063-014F-4783-B74A-22D87A59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BA6B6D-3916-4357-9A03-573B62A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E52BF-6D51-4385-A163-76DD3C1D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0BA087-C794-408A-B97E-109C9A00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3F8A7D-F931-4AD8-989D-2C0ADC2B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B9340-A007-44F9-AFA1-FD892D30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E2BBF3-77C2-463E-BC46-7829ED49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6687B1D-C248-48A8-93DA-F8BD4BF64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04A84A-12A2-44FC-8D4B-DCBE1C09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70E2EC-E543-41C2-AF76-9936D5C8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0360AE-FAA3-4B7E-BD4D-3AEB6F49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4694-B2F0-46EE-B816-7F47CF78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2B679B3-3E96-44F9-BCBE-78B78988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078C2C-B644-4214-9754-A129D753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8BE16C-F033-4D88-8CD5-B5FFF30C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9A850DD-F8BB-4903-BA9F-B3CA1871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0DC2F0-021B-4F90-BC59-9B9FC97F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820A6EA-E659-4F1C-A6FB-6B556CD50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337CFD-6EC1-4546-B90F-A1A6A200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ADD793-C1E2-4D73-835A-7B406FCE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4CA328-585A-4D7C-ACE2-173E7DA7D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06FE477-B18A-49E0-8169-79B73CD9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4CD0-7DA4-446F-98D1-C5F3EBAD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9F6FBD-1273-4A8C-B295-C7023736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9580123-A3EB-46F0-82BA-5E394C09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A43F2C4-A9EA-404B-90C8-D8BB43C9E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42446B5-57A9-4C3B-B168-1E4325BD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7F89A6-56A3-42BA-A79B-AF942506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E99B79-EE5B-447E-8965-F699F6DB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38D73E-8CB8-4037-AA6E-EB5CB31A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C53A12-7C86-4FDB-86B8-13136A61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43F0446-F669-498A-B9E1-CAFA042B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C2705-C490-4A6E-BA71-C0E2DE6A54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FB97-DA3E-4FEB-AD22-C6546992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1CC62-7DD7-40F7-9B5E-3F05DF8B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0809E-75FC-46FD-8AD0-6389BE0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3B93B-8C14-4ED1-8A0A-CF81378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E75812-94DA-4B68-9B8B-6A124E43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7A06E-C730-4096-9727-5D0718A9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064F53-7AF9-4A3B-ACDB-5E7B5632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6E96F2-89ED-46B3-B189-30EC219F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7D36C8-E012-4174-8EAE-B60548BB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2C975F-210F-435F-AEE6-4646E1B1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88995-FA93-47AD-8BFF-3C0B691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9FFA-A6E4-43B8-8754-309A69A2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284F7-4B8C-4350-846B-57AAF54447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0DD419-C847-497B-905B-50D13A7D7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885C5D-E304-4009-803E-77BEF20B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BFE3E5-50F2-40B6-8D1A-69D3F1FF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3A58FD-7883-4F42-9572-B920245D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70E72D-DBC1-45CF-A9A7-DC657C49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86F4F3-14A2-476A-B685-0164C506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18C984-CC4B-41A3-9685-32981EA68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1362A2-445B-4068-9362-04BAA5CD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CB28650-FEBB-47E1-A881-1D92AAE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429-2C20-46BC-8151-73A7BA45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48ECB6-7A2B-4206-B24D-197E0FFE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51204E-9EA8-4AD7-A36B-9DB97A9B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120F6D-F891-495B-A64A-0A5100FAAC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4BE092-3ECA-4934-B9CA-41045B2153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34E774-5479-41A2-A805-E8CF56EA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7B9E5E-1FFB-40D8-BC2F-E7AFD9BAE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205FD5B-0301-4DA7-AF12-17B23639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C227C57-671D-4E35-AC73-60281214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2110134-B8CA-435C-8BF4-B1322731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58E613-DBC8-4C29-A5C8-5CC45B93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197-1CDB-4003-926F-943CA143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724D-F83E-48AE-8D34-4C4F0633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43391A1-D7FA-472E-887E-D85277A46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DFED56-6A61-418A-9413-F7958F1E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C47BCD-2C7D-47D6-92DD-51BC1AB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0DACAEC-F378-4FB9-8A95-E9065D5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5B5B1E-29DE-4C4F-A986-4AFEFF1A30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5D806D-D93A-400A-BCA3-C0D9B6BBE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5451551-D6EE-491F-8521-C96A18BF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DAD41F-8CC9-468A-88CB-94BF003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6FFB5D2-6DC5-4928-BB6B-772B4BCA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F4385E-A837-47E2-9075-ADDA22F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2A68-31FD-473B-B6F0-6F4C3583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E3452CF-19D6-4A9E-8C72-288A31F4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FB65B62-B1C9-4981-A867-E54F67D8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9457DF9-D673-40C8-8DC8-B89747FB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484A95B-955D-4F3E-BF43-391CEEB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BCFCB7-CFBD-4FAA-BEE8-279505B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150F694-E94B-4763-8451-B3725388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258E067-3DC9-4AFA-A3F0-EB0FB803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C37A63-564F-4CFD-AC1E-D7CF7239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1251A44-4E63-46FB-A316-849A7101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ACA7DB-C032-4B26-924F-4C038C5C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46C8-B463-4C2E-BB1F-8C719333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BAA7E31-7D22-4E57-A6FF-B5AB5818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4403B29-9CBE-4FC1-B971-E49A2756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9B46168-C304-4DBC-A742-B830A8AF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3CD63C-C961-47EF-8BDF-34208C3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C8B4240-EEBF-4068-9BAB-E0F8CBEB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4086AF-FFCF-4B8C-A082-9B4A3DD8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BFC207D-AB83-4FE6-8621-BD53BC31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37193F9-9E0B-4695-8D8B-20E8FCF6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D5CC5F-A336-4915-8D41-9BE2E2C35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BCC57F4-89BD-405F-8F08-917391A56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C829-7156-457A-9000-843C9447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04AA612-A1EF-47E8-85AA-570A8F83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0DCAFD0-AB9B-43AA-AF7A-5568BC29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958055-0463-4EFB-B50A-A5858B31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FE999A3-458D-4833-8DE7-82AC1BA0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46A25E3-B3B1-4047-8FDA-1E8C26B9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3D6B8E6-D3C3-41AE-8E04-F7EB18FB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390A15E-9D67-4173-8CEE-CC57DDCA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F58ED67-E92E-4601-AD8B-7B0416BD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D8B161-6D68-4175-B6A3-B723A46C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8FF1F90-D63F-4F37-A9CA-8EFD8975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4576-A497-48DB-9113-88AA71BD4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159806-57F0-4E5D-A615-C075FB19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271A87-C3A8-4232-A2CF-1509E3CB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2C37E06-0465-486A-8BC9-29C74F1A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2C10DE-2204-487C-9B2D-6D4E667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C713577-1452-45FA-AD56-212C97C7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7E4A02A-E6D6-42F9-B8F3-4048CE6F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0181AFA-31DF-45FB-B4CB-61CE1E07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A5682A-6B28-43F1-AC35-5B59644A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403F6A-647F-4D1E-AD5E-A519199A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C85E1EED-E30B-462D-BED2-696B62C9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5588-545C-4F68-9A29-6EA00C1E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7D7F5F6-0689-40F1-971A-D303F642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D45093E-1678-434E-8886-E66060B6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F411DB-4CE8-4EE3-8DFB-ACFD60A5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3E61FEC-B993-4E18-8F75-45E54EA4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6CB5045-DEE7-485F-AE1F-4F3FBF96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4E3BED-1C4F-4AA8-A506-A97E14A7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3B7DE3A-A3CE-48E3-9FFB-6DE2A2EA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A5073A-A640-43EA-B2C6-AC4E5F11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1DAEB3-2F7E-408E-AEF8-3AF9C8C7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E5205DD-CB66-4D6F-9916-0F24D1B5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498E7-D870-420B-B01B-68E588A9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ADFF411-BEB1-4510-8DDD-703CAF91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28F6C4-DCD9-4907-88D7-BD728E9A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2F1194D-79FD-43CB-924D-65A4E134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650091-0E82-4B39-908A-597E71C8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A41DAF7-F179-4F83-ADF6-C4CA2EA2E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49FC74A-5AD3-4F95-8E49-216F62E9F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2696849-5185-4D12-BF14-DC4D2551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A18EBC4-4904-4503-9695-F3844A5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A0325A-3DCF-40D7-8839-4EF0E0DC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6CB0DAB-2BC5-40EB-AFAE-AC7B5E79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5DAEA-CC46-4DCC-9AE5-5E0CCABB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06B25F9-E0BF-4BC4-8078-8042916D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3AB3869-E020-434A-B010-1D47B9AC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2F580F3-7C7E-475B-A70E-9F281B7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D3D1E3E-CB1D-446C-BD2A-D4CB1B68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59C7512-B9C2-4493-9590-CE637E6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0C9541B-2067-4728-B02E-6FF96AD5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1106EA-221F-43AA-9BB9-26B5DD0A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33097E-F606-4D84-A484-91EA9697A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BDE034-F2DD-453D-BF78-762219D8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6AF00C-8AE0-41C9-A3A0-20FB4339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36BAB-0C3A-4408-8FB8-FB3B9C6B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4F4EB0-618E-482F-B867-C2410342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E03E3F-FB43-4A7B-AFBC-57171227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BC70F-3302-49FE-8CD9-1E21052BF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C82D78-D78D-46A4-ADDC-462D2F73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569B5A-54C0-411F-B999-45EE62DE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2CB918-26B0-439B-945F-0650EBD1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AA2AD2-821E-416C-B254-35E88B76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D6996F-876F-446C-BC99-98A0AF1A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FD2339-C150-41EB-A387-4CC14803D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DC277EB-25E3-4FA3-88B8-F469183F0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62ED4-B88D-4C26-878A-2F36F0D09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3E154E6-AB15-412D-8C64-392F9197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F9A926E-098E-463C-B3F7-63615491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CA78AB66-A6FE-4D41-9D95-9EF3C1C2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316A6959-5749-4719-A705-1FE01814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17578D2-2760-4D72-8A03-9F18CD750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13EA070-28DF-4F44-B4FB-4A7F868B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AB83F6-0F09-444C-B9BD-39FF467B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C380EA1-BCAC-42CB-8B4B-CE38650F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22FFBEA0-69C4-4CF7-9112-83FC9AF7E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D5628435-4AF1-44ED-BDD5-D6FDD8F8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56B-4735-4F75-B3FC-BC36B474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323C-092D-4D19-8470-4F0DA521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7EF6DE35-675A-414E-A817-C25EE4C917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CA86EA-254A-49F9-9B3D-A754A73B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D1F756-9FBC-490F-9CB0-BC8008D49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929B4CD-5BC2-4507-B573-82031DEF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908FD4E-1B25-4167-A754-40FED68DA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BA2ED0E-F5CA-4414-B60C-AD5AC9A4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1AF636D-5867-464B-8FE7-C3B4CCF4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F22B37A-8768-4E0B-B330-E17D7207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C3685F8-4C12-4B6B-B411-185C40C5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96AF3142-912E-47CA-BD83-81D101A4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582EF-2921-432D-A997-BA1B8732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B1AFED46-0AC0-4C45-85B9-AF795691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BDA4C96-2C6E-4FEC-88E0-D18C8B2D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1E8A369-4EF4-4EDD-A6B2-6F089D2A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986E0CC-D72D-4888-95AB-72EAEAD6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E58A92F-CB75-4E08-BFA1-99E8938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87D88E-3786-4D69-A943-14CA797B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A830BF8-F681-4FCC-86BC-8DB69DE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46C7B3-366A-41FB-B588-A1CD4601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4633C67-B183-4AC5-A0AB-F0FDEC187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0A9EB28-8743-4FA2-A554-40307EBB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EDA91-D0E3-4053-BE33-BA5F0828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A62F33-EE4A-4D01-B293-77988005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058428CB-2D42-4C51-9643-6522C49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F1726AA-8EAF-4F1F-9E65-61EA48C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31D1BCB-797C-47FC-B99C-944BE085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66BE2E6-1373-4EA1-B47A-48602403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98BB5C9-2327-437A-AF1F-A11078CD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45F00D3-C3CA-4071-806B-11A28845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6A3A164-DA56-4CBC-85F5-94ECAB04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D7DFF7A-A289-4176-98CC-AB70DEBE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19F97D-6673-4D14-BCE6-2B32B3EC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5518D-9C00-450A-BAF5-8FBF383C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FC6B6B-DEB0-41D9-A34F-4C486834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A3611BA-49E1-4ADA-859C-DC1BE02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E617C9C-B463-44E4-A98D-5429457E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C087035-145E-4D64-BEE6-7434C56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1DC5FA7-DD90-4EE7-8FC9-9788808C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23FDC18-0A77-44CD-90A5-25C653C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B0339219-2C3D-4E3F-A670-C8837B5C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961CF85E-BEA5-4292-AB31-9E0D225D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81BC9515-336B-4262-90E0-A92B2546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3A54750-0B11-46C7-947F-789BAC65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ACA09-F9D4-4CE9-900A-4953CBE6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B287BF2-DEC6-45C4-80D0-674B7B1C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1E3B28C8-3627-41AE-86A9-AC1FBF3B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C4234829-B22E-4811-9027-A89445D0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F5D0A0FF-A0F1-4BAF-8544-22199957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D701111-F3B8-416A-8216-5ACFEC8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AA88A050-FA79-46E4-BA4B-AB7D9E06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79FF4A6D-F758-435E-8869-7EE43A6A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5EEB45B3-A1CF-4B8B-96DE-0133CB98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0"/>
          </p:nvPr>
        </p:nvSpPr>
        <p:spPr/>
        <p:txBody>
          <a:bodyPr/>
          <a:p>
            <a:fld id="{39420301-4C5F-439D-AB55-85B9B2706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226FE3E-FECA-4A3B-BFDF-7242E0118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A15C8-3E79-4BCB-B011-226A4735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302023D8-47CF-470B-9C60-25518459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0E34493-2F2B-4BE7-8E17-76E35343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C854428-97A7-49D9-9183-7153135C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ADFE01F-CB3D-403F-A0BC-A37744CBD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55E754C-67AA-4790-A2BF-CC4272BF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B9773F9-F5AC-491E-A3A7-8C70453E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62D2BD0-608D-42F4-A8E9-55D22CF07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940439C-0F4F-41E0-8AB5-F7EC5C3B2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8BF15A2-B423-4A6C-9ACE-F506CB6F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17ECB1C4-EB13-467B-8FFA-A525693D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1220E-FC04-45C0-8258-BDCBA6C2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A9288A-70E2-482F-AD2B-ADC8994480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DDBB9-3746-4FB4-8C7F-C12677AC6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3C3AB5-EB76-42D6-B027-B8124E86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44A67D-B235-4659-947A-1B68773E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37194B-F843-41D5-8301-5D4CCFAF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1D5C42-44F7-46E8-B531-BA266B554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572404-1A12-4580-B9BD-60999618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6BB836-3984-4699-8826-ED3936F9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876D3C-A7CB-4A1D-80E7-AFC2A93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BC1273-FA26-492E-9056-62CBD9D1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876BB2-254C-4736-9B2E-0A69D28E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B62F27F-7630-4A03-972F-DC3F4D52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3B47DE-5456-417A-B3B9-FCDEB914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B61E31-59E7-4D83-9D36-8681958E6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B1F9-60B1-4AC9-B41E-5D1D35F5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50610-BC90-4F87-934D-832EB705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8FD-2A22-417C-A74A-8B2E17B7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E56D-03F3-4AF6-97DC-A9C2EB1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71603-8F63-42A6-9A65-5B184C3F6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BC128-E98C-4147-BE76-586FB217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1184-98BF-4AB8-86D1-05D05664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679C-A546-4F6D-A792-3826701C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D8212-F5BC-493D-8185-EE24EC5C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FF5DE-5725-466A-AA7D-6609D1384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15A5-506A-4C4C-AC95-5D5FC98C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6B35-B6A0-444D-997C-9E70B52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C5906-F704-4766-BAB2-72A79CA9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F83-E6BD-4A2B-B01E-24605ECD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08EE5-41FA-4FEB-99DA-4CC268E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C6530-D7FD-43F6-9962-93044204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01CA-64B6-42D1-93B2-D0B3C529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4AF70-2468-40C4-A679-A0B2AB97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8126-AD0E-42F9-AAB2-593BBA8F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AAD60-3573-41D0-BD24-337BAF4D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8797C-E5A9-4BC4-8AA1-B9F3B6F1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73071-8154-4500-B649-95522DE0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4F9B2-BF46-43F9-B442-CE7E3414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16D57-0C7C-42F9-9F7C-50AB982A4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841D-8144-41FC-B46D-290F789D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D0B89-7AAC-4CC4-B056-B65B5B141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BE554-612B-4D38-9495-39EFB40D5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D8A97-58F3-44BD-83C3-2019A05D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1E804-F353-4B69-8760-5C79D4F4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A7307-D597-4FEB-A60B-B554C41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90813-229C-4425-A944-44C5E203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2EDC4-5936-42EA-AC08-3A99B338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AF97D-A1A3-49A0-AA5F-2F1C54DB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54287-6142-4D3C-9435-867930BD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08FCF-3C6A-4F20-970A-4745AE0D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97F9-6B5B-4305-9A3E-A78312B4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87AFC-61AF-45F4-B95E-F911ABB2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81C65-A269-44E3-BAC0-98864A6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8F291-D1F2-4DBB-9EDC-3EA4DBB3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27E53-F400-4A1F-AFFB-7531B510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AD7C-9EE1-4F08-AC37-3DA86B69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C8D70-A6BF-4CCC-A891-7F6E18DC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3703F-3262-48D8-8E50-9CC84FB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D49DA-9781-4732-8AEE-5D1A234A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E7BE8-68F8-4D66-9FEF-5754E5F5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29E08-910F-481C-B51A-1C5C9FFA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B76-EAF8-46E8-ADB2-F6C14F6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6BC7E-AE31-40B7-89E9-D19868A3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67436-5564-4957-A86A-2858D603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0D942-85A3-434E-884C-2DD062B8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BA547-51D6-4CE5-8485-36E1A521B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CA59-DB9F-47F4-9BCD-4E533682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FA2E3-FEAC-4593-8B2C-65FA0B92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BF4B3-9EE8-4A40-B480-E6D28079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06F1C-78F2-4712-BED7-5F4F16E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4E754-92AA-470D-8C51-BF382A1B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D2C8-B2C4-48FB-8DA1-5C8370F0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8287-4D93-4557-9225-E5AB1B6D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45720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80B4-32FC-4A55-A276-84CC4331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E569C-94F5-4E39-BC0E-1C637E57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17595-74B1-4112-BBDC-598AEA9E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14D6B-A640-4AF0-9145-DB13C70A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31925-92A5-4B78-94F0-522CD074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6660C-E091-4E00-949E-DFB02146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00222-3827-4DE3-8E57-FF1876A5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5F4C5D-F71F-4259-AF3D-E02548B67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07D5BA-F80C-4AE4-AB4F-88FD88F7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8368D3-3178-4BC0-9AB9-D11D4B3F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35c5b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35c5b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35c5b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35c5b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ACAE6-B28A-4436-9EBC-21F0EA065B4A}" type="slidenum">
              <a:rPr b="0" lang="en-US" sz="600" spc="-1" strike="noStrike">
                <a:solidFill>
                  <a:srgbClr val="635c5b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00EB5-40D9-4D56-99AF-D6EA96CDA84C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29867-9DD4-4823-8F59-D7B76B960D9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19CE4-8905-4674-AC42-E24717AEE2B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3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3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3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FBAAB1-8B15-423C-B5AE-107008B0F21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4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09549-31CE-4F63-B1DF-A9143AFD4581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4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A3864-2D33-4EA5-B590-9DBEDCE39F0F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dt" idx="4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 type="sldNum" idx="4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75120-BE1B-44CA-A9DB-377ED712A80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USAID_Logo_White_v02.png"/>
          <p:cNvPicPr/>
          <p:nvPr/>
        </p:nvPicPr>
        <p:blipFill>
          <a:blip r:embed="rId3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678" name="Straight Connector 16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4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 type="sldNum" idx="4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400DF-D778-442F-BABE-6CDFBC899D83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721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ftr" idx="4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sldNum" idx="4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45A75-E054-483B-AAB9-AAE1BA0B6B30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f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765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EE421-C2C5-4F7C-BAA1-7F8A07AE8F09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Placeholder 9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69320" cy="655344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13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4" descr="USAID_Logo_White_v02.png"/>
          <p:cNvPicPr/>
          <p:nvPr/>
        </p:nvPicPr>
        <p:blipFill>
          <a:blip r:embed="rId3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20000"/>
              </a:srgbClr>
            </a:outerShdw>
          </a:effectLst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C8C87-EEC7-4ACD-907E-0CE96D0B0894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488FF-A432-42D5-8EE8-6537A7F28F5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 type="dt" idx="5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 type="ftr" idx="5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 type="sldNum" idx="5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2CDD9-0EF4-429C-B074-40F8B6F16D4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5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6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6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3EB85-60F9-4AE2-862D-5536D44A485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 type="dt" idx="6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 type="ftr" idx="6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 type="sldNum" idx="6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A15FD6-3D18-408A-9BB2-80AFE536CD04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sldNum" idx="6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F3A2D-4EE8-440F-8BA2-869236BFAFE3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sldNum" idx="68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355AE-8927-4802-89A9-2269EE444CB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9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70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71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8543A-A1F4-407E-B6F0-F099D865D78B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2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3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4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FF52C-BB05-4AFD-835D-EEA6FAFB9331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 type="dt" idx="75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 type="ftr" idx="76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 type="sldNum" idx="77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8CD227-2222-4314-9C09-725C127F809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78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79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80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7CFDD-D07F-4AC6-A3EF-5C751BE581A9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USAID_Logo_White_v02.png"/>
          <p:cNvPicPr/>
          <p:nvPr/>
        </p:nvPicPr>
        <p:blipFill>
          <a:blip r:embed="rId2"/>
          <a:stretch/>
        </p:blipFill>
        <p:spPr>
          <a:xfrm>
            <a:off x="684360" y="685800"/>
            <a:ext cx="1828800" cy="544680"/>
          </a:xfrm>
          <a:prstGeom prst="rect">
            <a:avLst/>
          </a:prstGeom>
          <a:ln w="0">
            <a:noFill/>
          </a:ln>
        </p:spPr>
      </p:pic>
      <p:sp>
        <p:nvSpPr>
          <p:cNvPr id="89" name="Straight Connector 15"/>
          <p:cNvSpPr/>
          <p:nvPr/>
        </p:nvSpPr>
        <p:spPr>
          <a:xfrm>
            <a:off x="762120" y="388620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D89A1-0F85-49C2-B7F5-9E25425590F6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81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82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2D408-FFB4-4EFC-9E11-C170EEA319C1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8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sldNum" idx="8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7E579-52A0-4B74-BB19-68A444DDFFC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0c2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USAID_Logo_White_v02.png"/>
          <p:cNvPicPr/>
          <p:nvPr/>
        </p:nvPicPr>
        <p:blipFill>
          <a:blip r:embed="rId2"/>
          <a:stretch/>
        </p:blipFill>
        <p:spPr>
          <a:xfrm>
            <a:off x="685800" y="5943600"/>
            <a:ext cx="1536840" cy="457200"/>
          </a:xfrm>
          <a:prstGeom prst="rect">
            <a:avLst/>
          </a:prstGeom>
          <a:ln w="0">
            <a:noFill/>
          </a:ln>
        </p:spPr>
      </p:pic>
      <p:sp>
        <p:nvSpPr>
          <p:cNvPr id="133" name="Straight Connector 6"/>
          <p:cNvSpPr/>
          <p:nvPr/>
        </p:nvSpPr>
        <p:spPr>
          <a:xfrm>
            <a:off x="746280" y="990720"/>
            <a:ext cx="320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941420-490A-4590-BD03-BEB7496F89A3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01B4B0-8EDB-4148-B3D5-A29A14252EC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D325D-74FA-471A-BBC1-1082CA1C49F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151920" y="652932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529320"/>
            <a:ext cx="289584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857640" y="652356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C696C0-065D-409F-9CF7-0DC8BB4F6238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uk-UA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D5866-A20B-4D85-9C2E-378DDDECE038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ame 6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152385" y="152385"/>
                </a:moveTo>
                <a:lnTo>
                  <a:pt x="152385" y="6705615"/>
                </a:lnTo>
                <a:lnTo>
                  <a:pt x="8991615" y="6705615"/>
                </a:lnTo>
                <a:lnTo>
                  <a:pt x="8991615" y="152385"/>
                </a:lnTo>
                <a:lnTo>
                  <a:pt x="152385" y="1523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spcAft>
                <a:spcPts val="1199"/>
              </a:spcAft>
              <a:buClr>
                <a:srgbClr val="635c5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1" marL="684360" indent="-230400">
              <a:spcAft>
                <a:spcPts val="1199"/>
              </a:spcAft>
              <a:buClr>
                <a:srgbClr val="635c5b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2" marL="914400" indent="-230040">
              <a:spcAft>
                <a:spcPts val="1199"/>
              </a:spcAft>
              <a:buClr>
                <a:srgbClr val="6c646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3" marL="1146240" indent="-231840">
              <a:spcAft>
                <a:spcPts val="1199"/>
              </a:spcAft>
              <a:buClr>
                <a:srgbClr val="6c6463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4" marL="1255680" indent="-230040">
              <a:spcAft>
                <a:spcPts val="1199"/>
              </a:spcAft>
              <a:buClr>
                <a:srgbClr val="6c6463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5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  <a:p>
            <a:pPr lvl="6" marL="1255680" indent="-23004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635c5b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15192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  <a:ea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26"/>
          </p:nvPr>
        </p:nvSpPr>
        <p:spPr>
          <a:xfrm>
            <a:off x="685764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600" spc="-1" strike="noStrike">
                <a:solidFill>
                  <a:srgbClr val="ffffff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ECDD9-A753-4AE6-8556-1DACC60DE7C5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Date Placeholder 1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Slide Number Placeholder 3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007A2-60C0-4927-A058-84E562E62D1E}" type="slidenum">
              <a:rPr b="0" lang="en-US" sz="600" spc="-1" strike="noStrike">
                <a:solidFill>
                  <a:srgbClr val="ffffff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5486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ПРОГРАМА РЕФОРМУВАННЯ СЕКТОРУ ЮСТИЦІЇ </a:t>
            </a:r>
            <a:br>
              <a:rPr sz="2900"/>
            </a:br>
            <a:r>
              <a:rPr b="1" lang="uk-UA" sz="2900" spc="-1" strike="noStrike">
                <a:solidFill>
                  <a:srgbClr val="ffffff"/>
                </a:solidFill>
                <a:latin typeface="Gill Sans MT"/>
              </a:rPr>
              <a:t>«НОВЕ ПРАВОСУДДЯ»</a:t>
            </a:r>
            <a:endParaRPr b="0" lang="en-US" sz="29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 type="subTitle"/>
          </p:nvPr>
        </p:nvSpPr>
        <p:spPr>
          <a:xfrm>
            <a:off x="685440" y="430956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Зустріч №1 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Дорадчої групи партнерів Програми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  <a:p>
            <a:pPr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Gill Sans MT"/>
              </a:rPr>
              <a:t>21 квітня 2017 р</a:t>
            </a:r>
            <a:endParaRPr b="0" lang="en-US" sz="1800" spc="-1" strike="noStrike">
              <a:solidFill>
                <a:srgbClr val="635c5b"/>
              </a:solidFill>
              <a:latin typeface="Gill Sans MT"/>
            </a:endParaRPr>
          </a:p>
        </p:txBody>
      </p:sp>
      <p:sp>
        <p:nvSpPr>
          <p:cNvPr id="1311" name="Footer Placeholder 1"/>
          <p:cNvSpPr/>
          <p:nvPr/>
        </p:nvSpPr>
        <p:spPr>
          <a:xfrm>
            <a:off x="3124080" y="652104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Програма </a:t>
            </a:r>
            <a:r>
              <a:rPr b="0" lang="en-US" sz="600" spc="-1" strike="noStrike">
                <a:solidFill>
                  <a:srgbClr val="ffffff"/>
                </a:solidFill>
                <a:latin typeface="Gill Sans MT"/>
              </a:rPr>
              <a:t>USAID "</a:t>
            </a:r>
            <a:r>
              <a:rPr b="0" lang="uk-UA" sz="600" spc="-1" strike="noStrike">
                <a:solidFill>
                  <a:srgbClr val="ffffff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1E2FE1-AB10-4555-A8B7-AACD9BEB0A6E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19040" y="-19440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"/>
          <p:cNvSpPr/>
          <p:nvPr/>
        </p:nvSpPr>
        <p:spPr>
          <a:xfrm>
            <a:off x="304920" y="741240"/>
            <a:ext cx="8305560" cy="54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ОБКА ДАНИХ ТА РОЗРАХУНОК РЕЗУЛЬТА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мплексні (багатовимірні) показники розділені на одновимірн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одновимірний показник (кожна відповідь респондента) відповідає певній кількості балі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Кожен багатовимірний показник має максимально можливий б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середній інтегральний бал по кожному багатовимірному показни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Розраховується відношення отриманого середнього інтегрального балу до максимально можливого у відсот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Будується графік та кольорова шка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5CD03-90E2-474D-9E0E-CB93ED50639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-569880"/>
            <a:ext cx="7772400" cy="179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Зведена діаграма по країнах ЄС 2014-2015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6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9" name="Рисунок 15" descr=""/>
          <p:cNvPicPr/>
          <p:nvPr/>
        </p:nvPicPr>
        <p:blipFill>
          <a:blip r:embed="rId1"/>
          <a:stretch/>
        </p:blipFill>
        <p:spPr>
          <a:xfrm>
            <a:off x="534960" y="1266840"/>
            <a:ext cx="8077320" cy="2000160"/>
          </a:xfrm>
          <a:prstGeom prst="rect">
            <a:avLst/>
          </a:prstGeom>
          <a:ln w="0">
            <a:noFill/>
          </a:ln>
        </p:spPr>
      </p:pic>
      <p:sp>
        <p:nvSpPr>
          <p:cNvPr id="1370" name="TextBox 10"/>
          <p:cNvSpPr/>
          <p:nvPr/>
        </p:nvSpPr>
        <p:spPr>
          <a:xfrm>
            <a:off x="1371600" y="32338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2060"/>
                </a:solidFill>
                <a:latin typeface="Arial"/>
              </a:rPr>
              <a:t>1   2   3   4   5   6   7   8   9   10  11           </a:t>
            </a:r>
            <a:r>
              <a:rPr b="0" lang="uk-UA" sz="1800" spc="-1" strike="noStrike">
                <a:solidFill>
                  <a:srgbClr val="00b050"/>
                </a:solidFill>
                <a:latin typeface="Arial"/>
              </a:rPr>
              <a:t>1   2   3    4  5   6    7   8   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1" name=""/>
          <p:cNvGraphicFramePr/>
          <p:nvPr/>
        </p:nvGraphicFramePr>
        <p:xfrm>
          <a:off x="534960" y="3564000"/>
          <a:ext cx="8075520" cy="2895480"/>
        </p:xfrm>
        <a:graphic>
          <a:graphicData uri="http://schemas.openxmlformats.org/drawingml/2006/table">
            <a:tbl>
              <a:tblPr/>
              <a:tblGrid>
                <a:gridCol w="2590920"/>
                <a:gridCol w="2057400"/>
                <a:gridCol w="3427200"/>
              </a:tblGrid>
              <a:tr h="3715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252396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Законодавча осн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Організаційна автономі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Фінансування судової систе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Управління су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Рішення суд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Непереводим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Внутрішня незале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Сприйняття громадян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 Довіра суспі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 Сприйняття коруп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 Сприйняття незалежності кліє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fd2ff">
                        <a:alpha val="35000"/>
                      </a:srgbClr>
                    </a:solidFill>
                  </a:tcPr>
                </a:tc>
                <a:tc>
                  <a:txBody>
                    <a:bodyPr lIns="114480" rIns="11448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Розподіл спра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Процедури подання скар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Періодична звіт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Відносини зі ЗМ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Зовнішня перевір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Судівська е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Відвід та самовідві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Зовнішня діяль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Зрозумілі процедур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>
                        <a:alpha val="47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145E98-9494-4EF1-BD04-D65F56FA3B2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-143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br>
              <a:rPr sz="2800"/>
            </a:b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лотне застосування в Україні. 2017 р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7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Chart 1" descr=""/>
          <p:cNvPicPr/>
          <p:nvPr/>
        </p:nvPicPr>
        <p:blipFill>
          <a:blip r:embed="rId1"/>
          <a:stretch/>
        </p:blipFill>
        <p:spPr>
          <a:xfrm>
            <a:off x="152280" y="1182600"/>
            <a:ext cx="88394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EE254-DF3B-4CDC-B2EE-0CB62FED2AA9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15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Diagram 4" descr=""/>
          <p:cNvPicPr/>
          <p:nvPr/>
        </p:nvPicPr>
        <p:blipFill>
          <a:blip r:embed="rId1"/>
          <a:stretch/>
        </p:blipFill>
        <p:spPr>
          <a:xfrm>
            <a:off x="324000" y="993600"/>
            <a:ext cx="85881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B49EB2-9EA4-4224-BAC6-08CAC1951BC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754200" y="32508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Програма</a:t>
            </a:r>
            <a:r>
              <a:rPr b="0" lang="en-US" sz="2800" spc="-1" strike="noStrike">
                <a:solidFill>
                  <a:srgbClr val="ba0c2f"/>
                </a:solidFill>
                <a:latin typeface="Gill Sans MT"/>
              </a:rPr>
              <a:t> USAID </a:t>
            </a:r>
            <a:r>
              <a:rPr b="0" lang="uk-UA" sz="2800" spc="-1" strike="noStrike">
                <a:solidFill>
                  <a:srgbClr val="ba0c2f"/>
                </a:solidFill>
                <a:latin typeface="Gill Sans MT"/>
              </a:rPr>
              <a:t>«Нове правосуддя» 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20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Group 8"/>
          <p:cNvGrpSpPr/>
          <p:nvPr/>
        </p:nvGrpSpPr>
        <p:grpSpPr>
          <a:xfrm>
            <a:off x="184320" y="1284120"/>
            <a:ext cx="4487760" cy="1963800"/>
            <a:chOff x="184320" y="1284120"/>
            <a:chExt cx="4487760" cy="1963800"/>
          </a:xfrm>
        </p:grpSpPr>
        <p:sp>
          <p:nvSpPr>
            <p:cNvPr id="1322" name="Rectangle: Rounded Corners 9"/>
            <p:cNvSpPr/>
            <p:nvPr/>
          </p:nvSpPr>
          <p:spPr>
            <a:xfrm>
              <a:off x="488880" y="1284120"/>
              <a:ext cx="3886200" cy="196380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: Rounded Corners 4"/>
            <p:cNvSpPr/>
            <p:nvPr/>
          </p:nvSpPr>
          <p:spPr>
            <a:xfrm>
              <a:off x="184320" y="1333080"/>
              <a:ext cx="4487760" cy="191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1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Зміцнення суддівської незалежності та самовряд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4" name="TextBox 3"/>
          <p:cNvSpPr/>
          <p:nvPr/>
        </p:nvSpPr>
        <p:spPr>
          <a:xfrm>
            <a:off x="1471680" y="4246560"/>
            <a:ext cx="6400800" cy="1543320"/>
          </a:xfrm>
          <a:prstGeom prst="rect">
            <a:avLst/>
          </a:prstGeom>
          <a:solidFill>
            <a:srgbClr val="bee2ff">
              <a:alpha val="68000"/>
            </a:srgbClr>
          </a:solidFill>
          <a:ln w="9360">
            <a:solidFill>
              <a:srgbClr val="002f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оказники незалежност</a:t>
            </a: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і та підзвітності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удови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rbel"/>
              </a:rPr>
              <a:t>Європейської мережі рад з питань правосуддя (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ENC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Arrow: Down 5"/>
          <p:cNvSpPr/>
          <p:nvPr/>
        </p:nvSpPr>
        <p:spPr>
          <a:xfrm>
            <a:off x="2162160" y="3328920"/>
            <a:ext cx="533520" cy="623880"/>
          </a:xfrm>
          <a:prstGeom prst="downArrow">
            <a:avLst>
              <a:gd name="adj1" fmla="val 50000"/>
              <a:gd name="adj2" fmla="val 49990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Arrow: Down 19"/>
          <p:cNvSpPr/>
          <p:nvPr/>
        </p:nvSpPr>
        <p:spPr>
          <a:xfrm>
            <a:off x="6539040" y="3327480"/>
            <a:ext cx="533160" cy="623880"/>
          </a:xfrm>
          <a:prstGeom prst="downArrow">
            <a:avLst>
              <a:gd name="adj1" fmla="val 50000"/>
              <a:gd name="adj2" fmla="val 50024"/>
            </a:avLst>
          </a:prstGeom>
          <a:gradFill rotWithShape="0">
            <a:gsLst>
              <a:gs pos="0">
                <a:srgbClr val="002d7c"/>
              </a:gs>
              <a:gs pos="100000">
                <a:srgbClr val="acb5d7"/>
              </a:gs>
            </a:gsLst>
            <a:lin ang="16200000"/>
          </a:gradFill>
          <a:ln w="9360">
            <a:solidFill>
              <a:srgbClr val="002d6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7" name="Group 20"/>
          <p:cNvGrpSpPr/>
          <p:nvPr/>
        </p:nvGrpSpPr>
        <p:grpSpPr>
          <a:xfrm>
            <a:off x="4498920" y="1265400"/>
            <a:ext cx="4489560" cy="1963440"/>
            <a:chOff x="4498920" y="1265400"/>
            <a:chExt cx="4489560" cy="1963440"/>
          </a:xfrm>
        </p:grpSpPr>
        <p:sp>
          <p:nvSpPr>
            <p:cNvPr id="1328" name="Rectangle: Rounded Corners 21"/>
            <p:cNvSpPr/>
            <p:nvPr/>
          </p:nvSpPr>
          <p:spPr>
            <a:xfrm>
              <a:off x="4803480" y="1265400"/>
              <a:ext cx="3888000" cy="1963440"/>
            </a:xfrm>
            <a:prstGeom prst="roundRect">
              <a:avLst>
                <a:gd name="adj" fmla="val 10000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002f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: Rounded Corners 4"/>
            <p:cNvSpPr/>
            <p:nvPr/>
          </p:nvSpPr>
          <p:spPr>
            <a:xfrm>
              <a:off x="4498920" y="1314360"/>
              <a:ext cx="4489560" cy="19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Corbel"/>
                </a:rPr>
                <a:t>Завдання 2</a:t>
              </a: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Corbel"/>
                </a:rPr>
                <a:t>Підвищення прозорості та підзвітності судової вла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1E499-4051-445D-9FE7-7C0865044F56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790560" y="39600"/>
            <a:ext cx="7772400" cy="12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: 5 базових понять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3"/>
          <p:cNvSpPr/>
          <p:nvPr/>
        </p:nvSpPr>
        <p:spPr>
          <a:xfrm>
            <a:off x="434880" y="152388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лежн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ть та підзвітність судової системи це одне ціле. Підзвітність є передумовою незалежності. Незалежність судовій владі дає суспільство. Підзвітність без незалежності перетворює судову систему в державну агенці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Існування формальних юридичних гарантій незалежності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 не є достатньою для судді, щоб бути незалежним. Фактична незалежність залежить від його поведінки та відображається в його рішеннях, що, в свою чергу впливає на сприйняття суддівської незалежності суспільством (о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єктивна незалежні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судової системи бути незалежною означає, що судова система є незалежною в цілому і кожен окремий суддя також є незалежн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Для підзвітності повинні виконуватись не тільки формальні вимоги підзвітності, але населення має сприймати судову владу як підзвіт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ідзвітність, як незалежність, відноситься до судової системи в цілому і до кожного окремого судд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E7877-E908-4716-A5EA-DBB4DB9EF996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0040" y="-36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 та підзвітності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3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9" name=""/>
          <p:cNvGraphicFramePr/>
          <p:nvPr/>
        </p:nvGraphicFramePr>
        <p:xfrm>
          <a:off x="522360" y="1523880"/>
          <a:ext cx="8088120" cy="3048120"/>
        </p:xfrm>
        <a:graphic>
          <a:graphicData uri="http://schemas.openxmlformats.org/drawingml/2006/table">
            <a:tbl>
              <a:tblPr/>
              <a:tblGrid>
                <a:gridCol w="1617480"/>
                <a:gridCol w="1617840"/>
                <a:gridCol w="1617480"/>
                <a:gridCol w="1617840"/>
                <a:gridCol w="1617480"/>
              </a:tblGrid>
              <a:tr h="7963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НЕЗАЛЕЖ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ІДЗВІТ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5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уб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’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єк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гальне сприйнятт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i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ники не розробле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984A27-F98B-4BEA-A742-C189D22DE10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4" name=""/>
          <p:cNvGraphicFramePr/>
          <p:nvPr/>
        </p:nvGraphicFramePr>
        <p:xfrm>
          <a:off x="490680" y="1519200"/>
          <a:ext cx="8162640" cy="444024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48092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ві основи незалежності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рганізаційна автономія судової влади (Рада правосуддя або інший еквівалентний орга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інансуванн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Управління судовою системо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дрові рішення щодо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можливість переведення судді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i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у випадку загрози суддівській незалежнос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5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нутрішня незалежніс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A697A-1B04-4E9F-A00B-4B5EF13CA8F3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Су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незалежност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4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9" name=""/>
          <p:cNvGraphicFramePr/>
          <p:nvPr/>
        </p:nvGraphicFramePr>
        <p:xfrm>
          <a:off x="490680" y="1519200"/>
          <a:ext cx="8162640" cy="474516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4115160">
                <a:tc gridSpan="2"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віра громадян до судової системи, в порівнянні до довіри  іншим гілкам вла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рупція в судовій системі, як вона сприймається громадянами в ціл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учасниками судових провадж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9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езалежність, як вона сприймається самими судд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5C364-0E6D-4C6B-A6D8-38AC67CA0280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777240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Об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’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єктивні </a:t>
            </a: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підзвітності</a:t>
            </a:r>
            <a:br>
              <a:rPr sz="2800"/>
            </a:b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3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4" name=""/>
          <p:cNvGraphicFramePr/>
          <p:nvPr/>
        </p:nvGraphicFramePr>
        <p:xfrm>
          <a:off x="490680" y="1519200"/>
          <a:ext cx="8162640" cy="3890880"/>
        </p:xfrm>
        <a:graphic>
          <a:graphicData uri="http://schemas.openxmlformats.org/drawingml/2006/table">
            <a:tbl>
              <a:tblPr/>
              <a:tblGrid>
                <a:gridCol w="4081320"/>
                <a:gridCol w="40813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удова система в ціл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кремий судд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6c"/>
                    </a:solidFill>
                  </a:tcPr>
                </a:tc>
              </a:tr>
              <a:tr h="3657960"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зподіл спра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цедури розгляду ска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еріодична звітність судової систе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ідносини з прес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овнішня оці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декс суддівської е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лучення та самовідві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пустимість зайняття іншою діяльністю поза межами судової системи, інформування громадськості про наявність фінансових інтересів поза межами судової сист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orbel"/>
                        <a:buAutoNum type="arabicPeriod" startAt="6"/>
                        <a:tabLst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розумілість процедур судочин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Date Placeholder 3"/>
          <p:cNvSpPr/>
          <p:nvPr/>
        </p:nvSpPr>
        <p:spPr>
          <a:xfrm>
            <a:off x="152280" y="652104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" spc="-1" strike="noStrike">
                <a:solidFill>
                  <a:srgbClr val="6c6463"/>
                </a:solidFill>
                <a:latin typeface="Gill Sans MT"/>
              </a:rPr>
              <a:t>21.04.20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Slide Number Placeholder 5"/>
          <p:cNvSpPr/>
          <p:nvPr/>
        </p:nvSpPr>
        <p:spPr>
          <a:xfrm>
            <a:off x="6858000" y="6514920"/>
            <a:ext cx="2133720" cy="1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3D1DB-13B1-45CD-A6EC-86442C75AE87}" type="slidenum">
              <a:rPr b="0" lang="en-US" sz="600" spc="-1" strike="noStrike">
                <a:solidFill>
                  <a:srgbClr val="6c6463"/>
                </a:solidFill>
                <a:latin typeface="Gill Sans MT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609480" y="339120"/>
            <a:ext cx="7772400" cy="94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ba0c2f"/>
                </a:solidFill>
                <a:latin typeface="Gill Sans MT"/>
              </a:rPr>
              <a:t>Показники </a:t>
            </a:r>
            <a:r>
              <a:rPr b="1" lang="uk-UA" sz="2800" spc="-1" strike="noStrike">
                <a:solidFill>
                  <a:srgbClr val="ba0c2f"/>
                </a:solidFill>
                <a:latin typeface="Gill Sans MT"/>
              </a:rPr>
              <a:t>незалежності та підзвітності </a:t>
            </a:r>
            <a:r>
              <a:rPr b="1" lang="en-US" sz="2800" spc="-1" strike="noStrike">
                <a:solidFill>
                  <a:srgbClr val="ba0c2f"/>
                </a:solidFill>
                <a:latin typeface="Gill Sans MT"/>
              </a:rPr>
              <a:t>ENCJ</a:t>
            </a:r>
            <a:endParaRPr b="0" lang="en-US" sz="2800" spc="-1" strike="noStrike">
              <a:solidFill>
                <a:srgbClr val="ba0c2f"/>
              </a:solidFill>
              <a:latin typeface="Gill Sans MT"/>
            </a:endParaRPr>
          </a:p>
        </p:txBody>
      </p:sp>
      <p:sp>
        <p:nvSpPr>
          <p:cNvPr id="1358" name="Нижний колонтитул 3"/>
          <p:cNvSpPr/>
          <p:nvPr/>
        </p:nvSpPr>
        <p:spPr>
          <a:xfrm>
            <a:off x="3124080" y="6520680"/>
            <a:ext cx="289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Програма </a:t>
            </a:r>
            <a:r>
              <a:rPr b="1" lang="en-US" sz="600" spc="-1" strike="noStrike">
                <a:solidFill>
                  <a:srgbClr val="6c6463"/>
                </a:solidFill>
                <a:latin typeface="Gill Sans MT"/>
              </a:rPr>
              <a:t>USAID "</a:t>
            </a:r>
            <a:r>
              <a:rPr b="1" lang="uk-UA" sz="600" spc="-1" strike="noStrike">
                <a:solidFill>
                  <a:srgbClr val="6c6463"/>
                </a:solidFill>
                <a:latin typeface="Gill Sans MT"/>
              </a:rPr>
              <a:t>Нове правосуддя"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TextBox 1"/>
          <p:cNvSpPr/>
          <p:nvPr/>
        </p:nvSpPr>
        <p:spPr>
          <a:xfrm>
            <a:off x="609480" y="2209680"/>
            <a:ext cx="6834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ЕТОДИ ЗБОРУ ДА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широкого кола респондентів в режимі онлай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питування експерті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користання даних з інших джере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20:02:08Z</dcterms:created>
  <dc:creator>USAID</dc:creator>
  <dc:description/>
  <dc:language>en-US</dc:language>
  <cp:lastModifiedBy>ignatchenko</cp:lastModifiedBy>
  <cp:lastPrinted>2016-09-13T10:25:31Z</cp:lastPrinted>
  <dcterms:modified xsi:type="dcterms:W3CDTF">2017-04-24T08:11:58Z</dcterms:modified>
  <cp:revision>148</cp:revision>
  <dc:subject/>
  <dc:title>PHOTO COVER OPTION TITLE GOES HERE CAN  RUN THREE LINES</dc:title>
</cp:coreProperties>
</file>