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F0A8-641B-4CC0-A22E-8CC4DF71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ECB2-A5E5-4670-91EF-72F9F22C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D68A26-96F4-458D-A2F1-BECC5452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5AE0A1-286C-4832-96BA-5322E537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7030CE-E292-4FC3-933A-11CC1A01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C301A8-E017-4018-9BD6-17733EBE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F19A5C-B9FA-447D-BD51-2F304AF3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1A9B44-EAE4-4C3C-BB13-7977F668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B2A848-734A-4B75-866A-78015C29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5B2FCD-9E71-41C9-9EEB-D07068D1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9F4EC3-C598-47F6-9BD4-9FF5F2E698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47A52A-EA8E-4477-BB5B-8CC962B527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F6B7-6568-42BE-9D58-F1F0B38B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FCED89-4062-4DB2-AEF4-AE16B5A1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B4EA02-2332-433B-929E-AA28EC4E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8B8BFE-CD9D-4251-BEA3-A484DCA9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4E1A30-20D0-43C5-A01D-CC560601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3ED5CB-B238-4191-92EC-DD1893E6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8E8B5C-A486-4CA0-92F7-39FA5689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BD5A17-0D22-4DED-9317-562C0B8F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1B6634-34FE-4D8A-A526-4CB19901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F2A22C-F1E2-47C5-8C94-C42BF79F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0D9AF1-2703-4E70-A33F-E891AEA8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426A-F77E-4BDA-B1E5-E5EC2F5C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09A2A3-ECD1-45F3-8C7E-00A2CFF893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1D4472-CD7C-4737-829B-C2C3FFAD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4DDA7C-4E00-4768-8C53-35DF7612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7AE2B5-B026-45F0-9DC2-C5E11B07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18AA27-5342-433C-9DEE-7CBB2A58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587F94-1CD9-4CE9-813F-5AFA1939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85ED81-91F1-4601-9866-26B969CB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B4D338-2CF9-45B2-B36E-74EAC81B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481882-106D-4954-B5E2-182ED9CC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73AC1C-1F76-4CB4-82A6-4C9674BC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04EC-CBA3-42F1-AE7E-39DDDA98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2BC40E-7CB8-4926-A150-082C8CBA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79E4CC-4B5F-422E-A5E1-4D30F148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B54636-E80A-4E94-870D-19C4425F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9EA2B0-0969-46FF-B90B-6E01329F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9A8E67-BC16-4A9E-97B7-A8460B91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68635F-AAA8-436A-8BFA-8291986A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E7CE54-D550-40DB-9051-F51FD184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9FEF5F-17E7-47D7-A26D-019D2CB7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760B97-DB8B-4613-8605-C44B352D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FBC626-3AAB-41D0-9956-88465DA6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069A-1B65-499A-BA9A-1F83A1EC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B62EF0-3EDB-4122-937C-63BF123B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6C86DC-2DF0-40A0-9DE6-8B8AE5AF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90389A-6EB1-487B-A7EF-D9061A23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7375B2-8307-49AD-AB7D-05694984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B784A3-346D-4345-AD55-00F63206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217951-2DDB-4B2D-8662-C196B9B7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D3397AD-F7D0-4235-9FAF-597161FD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7289E77-CC6D-40AC-91D8-E8A4CDDF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2D12081-9883-4BD4-B9AD-66CFD975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4621EFD-0362-4063-AD21-707E2C75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13F5-A196-4E4F-9819-608BDF84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074E3DE-53CF-4D4B-B208-BDA87C81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F6F02B8-A38A-476F-8571-89475AD7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381E284-4D1D-4E3C-99DF-90933745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B7F6A50-9324-428B-891D-2555D62D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E076818-8CDD-4629-B975-C78A71F2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3AC260D-72B5-4590-A334-3D9A3622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D061305-E838-46E4-AF36-87060BBF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660C251-37C1-4414-BDAE-7A1829D0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9615AFA-3669-42F3-899B-9EDF4627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0D5646C-C012-45CD-810D-BEB389E5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9E94-5424-4105-B575-F74D3EF3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4A899B8-7441-4D4D-A89D-0AEF65A9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D8AFABE-8560-42FB-AD44-8E5F6CBC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3EC54F8-81F6-4982-B9E4-DDB83EB3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8D442BF-FB08-4220-A990-8B616AEC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8839192-6300-4DA1-95E2-7D8895C0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08461D3-6C29-44B7-80C4-C4FDCD93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10B4026-9E74-414E-AE12-730D2A70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CEED9D9-CBD4-486D-86ED-07C29C67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B7915AE-DA21-437A-978D-C78250FA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375FC5-28AB-4665-A24B-9595E8CFC2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CA38-79F2-4B85-97EB-7FDEE985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622F39-FD4A-4926-8E2B-FFC8AEC4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288A28-8A80-46CB-AA91-958310EA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805DCA-FCF2-4B23-A903-C9B1E1F0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709AC1-E69A-47D2-9A25-A4880A89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5B934A-5EF2-4650-9654-B84CC838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C3F095-52F6-4095-9B9C-0FF5EEAC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8DB402-E98A-4CFB-A4EE-462E385C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D0E6CD-656E-49C3-8A1B-C1B7ABCA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AE696C-CE6D-4E1E-B2D8-B2A74C11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454787-8058-4C52-B5C3-A75493BC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51CB-E6E9-4E5B-9036-8E4F6AD9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0AA7BB-210C-43A4-B65F-626D4CF32B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D0EAD90-4BE1-43D5-85F6-6FF4B45999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87DCDDF-4EC1-428A-A6CC-1CA31F59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2B23CF-E013-41BB-9FBF-66BF2097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AAB583C-9C47-4DF9-9F97-ACCA5AD2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F2253A0-8AD3-4C0E-87B4-684F35F5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B9F00A9-8983-4806-882D-041FC384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7B5CB19-57A8-4C3C-903F-C07E944A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851F2BD-8435-43B8-8896-5D9BE4F0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9FDA2DA-786D-4E7B-9A66-73D467C7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B3DE-3207-4B06-B356-4975CE4C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2BFFC6C-387F-4F73-8A0B-E36B9664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1BAD62C-4A8B-4E68-8E61-C9964DE5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54823D2-78A7-4B9C-AFC9-DC021DC85D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3D95FC9-892E-4BC9-B703-E5133D8231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63616A3-9D21-4C6D-94E0-B4DDBE32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6C6C898-A104-4D34-A236-F20D1DC4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FE914BE-699D-49D2-BDF5-2D512B0F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F63C47A-2C57-4FB5-9460-76F6B4EA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3A3919A-75F5-4337-AF5C-0FDF639E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CDF7FC0-773B-4B06-A64D-7969ADA3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9ED3-C07D-4338-844F-DEC3EED2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0EF0-2C48-4998-97B3-8760F0C4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DCAAFE5-F15F-4676-9572-508D27C6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6F77786-B65D-4AE1-8002-AEC5B838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851B945-78D3-4FB4-AAD5-736A9676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7250538-B231-4063-8F68-E58DD263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D82E852-CF17-404B-A322-6CC7C717C1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0352469-7A47-4C34-A066-9BC55FFE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55E70EA-5D01-4451-8FEE-9922628B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2417E25-EEE1-4E29-831A-70E0332D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A99700F-96F8-46B4-856E-E05DB8D7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947B070-0707-4BEF-884F-4C11B06B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7ABD-099C-448C-991E-BE1960AC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65A0FA0-00AE-4EE7-827F-60EC9CAA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521931E-FB85-4A80-B7F2-6AE90FE6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C2DA5E0-16DE-4C20-B84E-95AC9556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6B8B67D-3BB6-4C8F-B9F8-D0897F2D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2C8DFD3-C8D7-4280-81F9-B2CB3D95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57A6E2D-8F7B-4597-B4D7-C745D0C1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8A87FED-B3B8-40D7-A08A-B2DE85C5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3FD9C90-4C93-4A1B-84E4-ACC28F0B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330B75E-F98D-4A4E-A1AE-9458CA21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F92FA18-BEC8-4FED-BD92-D7556C27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F407-38DB-4B9D-9C35-B7345E89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805830B-184A-4EA3-9556-4992F529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4001C3A-6F82-404A-B552-BCAB3D7B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21DF259-C830-4CD9-9120-C462A499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795D9DF-8A3D-41D8-8D30-86193A32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0F80198-EF35-4571-8836-7CCCAECD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ACC1B98-AB67-4E76-91BB-EAE63477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FBA5BFF-B21B-4085-A8E6-6F9EDFD2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373A910-6482-45CC-8C3C-0B0758F4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13EF686-25CD-449F-B731-71C86F2C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C237622-A97E-491A-BC48-61F777A1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956C-3D2D-437A-A408-81832397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48FA467-F4F1-4D80-8B28-A8997E59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0A97153-BAA9-4C91-89C0-38B513DA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CD2720C-863C-4E5D-B6FE-573E0087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2B14EA1-6545-430A-8048-94FDD72B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E7C633C-0CD4-4094-A575-607205BA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CA0747E-DC02-43EA-AC56-A9692E0D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500DDB9-8700-4C8F-8011-57F58792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91B6B4A-2044-4737-9635-2DA9D1AC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CFB1D5D-15F9-49F6-8F4C-2BED464B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DE40C32-4CD2-4F63-BF29-4466AA90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C2D1-0C9C-40E3-BC03-1D6462A3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CAB70CA-81AB-413F-8A6C-5B92A39D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A1863E9-280A-4AD2-A9EB-F14361C7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856AFDB-B8AA-413D-8045-DB332EA6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DA81003-DFAF-4292-BD7D-4203EC16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5496154-AB4D-4765-8A6C-557DCC2A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A78DF4B-63EF-46F5-8769-C2C631B8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5CB9A6C-5FB0-48DA-A385-74086787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861C539-326F-455D-9BA9-ECD95210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8F828F9-6D4C-40CF-B0E0-1FD57A34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3966D68-23FE-46DD-9A77-9F667A1F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AE090-453E-4618-9AD6-F438CC4E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57CA8EA-F9EC-4F0C-8B72-749E7428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A34CE8F-7E8A-4FBC-A4F3-F0C74998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4576D68-8EF5-4426-9D41-1BF2AA5E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EA609CF-C73C-4126-95ED-F2B77E06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DE107D7-9301-48A5-9286-F95E48DB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6C66C5D-5980-40A3-A8CF-8B72E7F7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CCC4161-508D-4A87-8031-07F95340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AB835E2-8951-4E22-B44F-A00CC776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F4775EC-DCC9-4E8D-B6E2-02F5E9CE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3578B51-0F09-4D77-BC1B-E7D1119C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FB9E0-38E0-4AFD-87DC-0A24D0CA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FAE1807-7920-43DD-AC3B-70A02A17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E0C3B7D-AD81-49DD-8EF7-A3FAAE09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DFDA50C-6A6D-4867-9B05-243EB6BF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1CC3841-E935-463B-B0E0-1E8B17DB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824C801-2710-408C-8F18-56DFD0E5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0F29DEA-50EC-4381-B3D7-E1552C14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A61F8EA-14F1-44C8-89B3-01CF1FE4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1E2E99E-CD41-4CB6-9504-33AC9BC4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3D6921F-7E07-411C-BE30-BDCB5515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F1A47FD-2716-45C5-BE1E-44F67253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3A7DD-C0EA-41EE-9B00-195CD94F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8300FAD-D41A-4D71-9998-CB8CCB42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2537B54-062A-48FF-AB1E-A1BF24D9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F77799D-9F53-481B-834A-36398DBC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2A34EE8-198B-485E-86FD-A674F752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097CE90-9B9A-43B7-837A-1FFE289E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59E8617-0D76-4D15-802D-FD7816C6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A8B2EEF-BE34-44DD-B77A-D767629C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4F592C-893B-499C-B1C3-2A7AEC0FCD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0502DF-9E18-4D56-84B4-50C44D98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7183E9-03BD-4A70-A76B-BDA8F160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C67C4-8ED3-42D8-8B5B-ACF873AF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91348B-7F28-4379-B746-9810185A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B6ABB6-18BA-4C77-908A-B1112D21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3C37FC-2E4B-4F52-8F0C-F3DF4991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72E18C-24DF-40ED-8B6E-7151E5E0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3D176C-D7A8-4516-AF0C-2B3A13DE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F3F931-4F1F-4E18-8F79-92D3798C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C7D5E8-0C4C-4F75-A54C-FD500AD0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DCCC28-A551-4055-8C48-E36F4F2D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0FCF86-F7DA-4E39-B454-3128FC12ED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FC443DD-F3CA-472F-8096-9556C5EF64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D833C-A664-44DA-A290-D650DD18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1A24B3C-9AFE-4A6A-A5E0-6FCDACAD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DE536FA-9ADC-4563-8A80-935B2263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EE69487-CF79-4B51-94EA-7B72F605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ED66648-57CC-4F64-BEA0-6504A195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3006035-32DA-402E-849D-2F605612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07ECBC4-99BD-4F20-BA7A-308F1B25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392AFCC-6CBF-4F02-AE87-4806C41F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6971464-F685-4FAB-BCC0-90FFD1C3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FAE1243-5139-4FB2-B435-C043732E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ACF490B-DFE3-45C6-9DC4-3C79EFD0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F337-28F9-4311-B79A-C529AEED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6E394-F092-4C24-AC53-F0E4DECC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71140AC-B6EB-4667-8A8A-71BFAA53A5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A3B3881-8223-4694-9271-8B488C85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4120073-00A1-493A-810A-612AA1C3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8619F90-E606-47A9-9651-CA0CAE08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C433704-49D2-43AE-8406-FCB6E314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589A035-6F05-412D-90E6-864AEAD0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11AEDBB-DCAD-4CE2-AFEB-AA83DB08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ED984FD-8847-4709-A91D-093128E9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E86BF29-F9B2-4AA7-B371-71DEBD43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2C3419B-4E2D-41CE-8239-563BC385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70C54-FD87-40E6-91BB-B3ED88DE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1182F46-62B9-41A8-A7ED-31347C80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0C3EFBB-B144-4521-BD4A-18FE504B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79775F1-B5B8-458C-B84C-3D558A13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9CD3EAC-9FEB-4785-802A-361E2347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90B98A2-731F-4D02-AADC-54009023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78990AD-7FDF-4E1B-A66A-3E1B584E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FB1772D-797E-4199-9CE7-6D2616D7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84AA9DF-0B10-4730-BC89-CE052A0E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129D613-60DB-4D24-A77C-33BBB389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08A63E4-560C-4C27-9BC9-56ECC9EA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0F357-5060-4766-8756-D044EA69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B4021CA-1DDB-41EC-AB81-32B4EE28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F82B7CC-A00F-4163-913B-95F1BE1D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29893D2-662A-4452-A7F3-55999F13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2D2DA99-A71A-4F17-B71C-FD42C123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E91BEF6-DF81-41D7-A208-219E655E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2077799-3054-42BD-B65B-3F7770F4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8B6047D-4012-4B16-B013-EC80D82E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BB8D323-8DC4-4C79-BFDD-FE7B5008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00C5744-D5D2-48D4-BB0D-DF9E651C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3446B63-DB15-465F-B608-DFDA46B2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51FC2-354F-4C2C-A9FB-F0675C3D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BD49B83-11E6-4E69-A1D1-0564A6BB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FADD194-E90B-4199-A3E5-C5F1CF4B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62B057A-17D4-448D-88A6-EEF95B60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FC83AD3-F794-4CF5-A2D9-5F203664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C2718F7-94DE-4E01-B9D1-C1BAAB61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4CF754E-894E-409F-9033-DA16F381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81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82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589DF43-436E-4B43-A338-FC1BC953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B7757FD-2EDF-43F4-BF5D-ED96AE94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E6B729B-A469-4A4D-8A06-1D6A4E58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373F9D3-EDD9-4BC3-865A-5ED66B8E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DCEC5-95DD-4A28-99E8-C14661D3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79A0E4B-D92C-4D19-BF2E-2CEA4E4C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CC8F0D5-0A51-449E-8FFE-156DC354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E1E8829-B9D5-4D50-B32F-CDB009FE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FAD3F2A-A04B-41D6-A515-ECEFA7AD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60AD0C1-4887-4D4C-99C2-3B59A0A6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3B1FD0C-0A6D-4CF4-A37F-57145DE7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75B40CE-FB9C-4F13-8F15-3A8810F7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8784A5C-53E4-4FDA-8C8C-78F3B675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47E61B0-B105-4277-9160-60A379CE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E104A8F-CE1E-4A79-9B04-3BD51EB674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45631-9A0C-4D32-8F8F-E169ED23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F91C9A4-AFF1-49A4-87DD-3D7978C1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FB233DE-346C-4A7A-A102-DE2DB3D1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C779DBD-02CE-492A-885B-F5175F2F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849DFB0-C4CF-480F-B588-CAACFF7DA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42C187E-E5A3-4EB9-A113-53179E2E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3F2F0F6-E69E-4368-9752-ACE1CAF4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7886C8A-93FC-4A49-86F3-A8EA7958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3E3C2B5-FE28-469C-9054-69CD9276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5C65AD3-4C53-4621-BA3B-59CEC535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F6D93E4-3008-4829-A7AC-311875AC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74AEC-7BC1-40BC-8958-A077DFA0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64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65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7F7AD3D-C013-4EDD-B340-C051B506E8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D85670-4D99-4649-806A-E107B928F3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21BECB-2E41-4E18-BC69-0AD0BA00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777EB5-3B1A-481C-9A1F-5E3F7C9F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A1B3BD-4659-46D8-A54C-0E014B95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876D5D-2620-4EEF-9E08-B3CFF626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334B4D-D813-45B1-9388-A32ADE09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3ABEFB-30F5-4670-9AD4-1CA904DF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F4E9FE-674F-476F-8DDE-C22E7250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DBE6A4-12EA-44F8-8C19-2EDFAE22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23034-A9A8-4FDC-9461-B78CA2ED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DC02B9-81A2-448A-B1FF-3474C57F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048B5C-9640-4CB0-A169-6E8BE9BB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63B9F0-4BBD-4A4D-8CA8-984B531601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0F4D3-5172-45A2-AFA5-0156D509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1799C-E619-4B44-9E55-386DB1B0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AF70-4835-4FF4-9908-F156F0FF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617BB-3E0B-4E82-8D2F-9899C79D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D90B7-7463-4C94-B115-93EBF030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2AFE2-FBDB-402F-BD64-F5B7D6F7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8105E-1AA6-457B-A752-A88E4C6A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951BF-81F2-4F70-95C3-A518B50D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8CD72-04BF-4AAC-83FB-5BAD9F57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B2417-6B70-4FB6-8E68-1B513629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01680-1EC8-4B7F-993A-2807AB89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A2B86-D2A4-431B-B3CB-FD33CB0D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9E67E-DE2F-498C-81E8-7679952F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1C07-6141-43C7-9FBC-5E4A5004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ACAC5-D868-4D27-9FB5-00B29A1E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2C1FD-B675-419E-8EC3-0FF161D6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1FB0B-8F01-401F-A4E1-34DE932C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5DBB0-7BCF-492D-ADC0-F716207A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4B92D-1001-42AF-8C8E-D33FEF4F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D9C99-572B-43A4-B125-1AEC42BE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EF4AA-8D7B-42D0-ACB3-26D12A11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6B637-27A6-48C6-B937-CA8FF1F2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D2217-848D-4AA1-BAA9-F4EC3CD1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E45F7-DBE2-47A5-AE0F-4648BAB1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5C4D-48DE-496F-91D2-23A09C3B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D08D9-0706-48D4-8633-2779A8E2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12DE7-B546-4819-8672-71BC59E9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98B36-D3D6-4450-8EA1-5B726D1F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24652-357C-4316-BACA-20C0148F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FD16A-112B-493C-AAB9-32B25317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9011C-3593-42B9-91D9-DD114E47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A32D9-B4CE-44FC-99A3-D4DAA7FD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081F2-7327-4D45-9643-420A3C60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2AB74-120D-4784-B7C0-D134C7D7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AD159-22AF-4E68-BA27-E97C2F7A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495F-21CE-47BF-BB67-232FC6CC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03EF6-7712-4345-B085-CD51E6CA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18E87-D165-4B81-886D-FBA81A2A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70452-D80D-4272-A639-0A987BF7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6DE46-8214-4E13-B15B-F06C4051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76724-673A-4B6B-85BB-0FFC88DC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A00CF-801B-4D6A-905E-F960D37C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EAC22-5C5F-4C43-A210-82F1B8F8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8510A-5815-4653-A8FE-37B7FB02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C27BD-ED1F-4666-A5B3-45E0632E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3FDBA-0158-43D8-B7DC-5187B3F1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92E0-8C66-4925-9789-A5822066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EB4FA-2B87-406D-86BE-9A70045B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C5AA4-B38F-4AF3-9C50-EF94DADE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13746-2C3D-4945-BDDF-64B0D2BB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27CE2-6578-4679-B97A-A4D9F39B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F0582-C4F2-4BBC-9E1A-1B0A28C0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E4D29-8491-487C-83A3-07022203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4A0BD-DE5B-48E0-8FED-6A6F44F5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6C8A5-7CE8-46E7-8988-BFC038B7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D5086-A37A-4307-82B5-47FA3475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7937E-198D-4667-A4DF-5BA0839B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5441-7FB3-4956-B6FE-E529B9C2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F6D34-3674-4B26-89ED-54D216A5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25CD5-8696-4DE7-88EC-735FD847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CF4EA-D2A6-4EC1-B897-A6E0D887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39B15-85C4-4400-9FF6-151CA271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BC77F-2320-44AF-BD76-B06F26C3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C6B7A-9B73-4BB2-9AF8-2F0BC41C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93526-E138-4D22-9CAD-8004015A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19E3FB-68DA-4888-8453-61350C40D9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40671E-0AE5-4916-BFC5-6419479C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9C6D1D-66D2-41AD-B761-4865E3F6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35c5b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35c5b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35c5b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35c5b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35c5b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35c5b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35c5b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CD966B-6C60-4D39-8B2C-62271CBABAF9}" type="slidenum">
              <a:rPr b="0" lang="en-US" sz="600" spc="-1" strike="noStrike">
                <a:solidFill>
                  <a:srgbClr val="635c5b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7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8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6F2D2F-85B2-4680-ABB4-ADF9269B1C78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9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0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1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D97004-888D-4F84-90D7-5F07A1799E5E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2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3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4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4B2B44-2719-43F0-BDC5-4B6199C753C9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5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36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7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91ABD0-D185-4393-B602-F09ED39A1F4E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38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39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40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A41DDA-36D5-4974-B45B-5409E489BF30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41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sldNum" idx="42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EB431-05B6-4C29-8A07-04EE484B8425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43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sldNum" idx="44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B674F1-0930-4090-A9A5-1BE6525B3AD2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Placeholder 9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USAID_Logo_White_v02.png"/>
          <p:cNvPicPr/>
          <p:nvPr/>
        </p:nvPicPr>
        <p:blipFill>
          <a:blip r:embed="rId3"/>
          <a:stretch/>
        </p:blipFill>
        <p:spPr>
          <a:xfrm>
            <a:off x="685800" y="5943600"/>
            <a:ext cx="1536840" cy="457200"/>
          </a:xfrm>
          <a:prstGeom prst="rect">
            <a:avLst/>
          </a:prstGeom>
          <a:ln w="0">
            <a:noFill/>
          </a:ln>
        </p:spPr>
      </p:pic>
      <p:sp>
        <p:nvSpPr>
          <p:cNvPr id="678" name="Straight Connector 16"/>
          <p:cNvSpPr/>
          <p:nvPr/>
        </p:nvSpPr>
        <p:spPr>
          <a:xfrm>
            <a:off x="762120" y="3886200"/>
            <a:ext cx="320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5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sldNum" idx="46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C7E1FC-F27E-412C-A880-04FE622761B5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6" descr="USAID_Logo_White_v02.png"/>
          <p:cNvPicPr/>
          <p:nvPr/>
        </p:nvPicPr>
        <p:blipFill>
          <a:blip r:embed="rId2"/>
          <a:stretch/>
        </p:blipFill>
        <p:spPr>
          <a:xfrm>
            <a:off x="684360" y="685800"/>
            <a:ext cx="1828800" cy="544680"/>
          </a:xfrm>
          <a:prstGeom prst="rect">
            <a:avLst/>
          </a:prstGeom>
          <a:ln w="0">
            <a:noFill/>
          </a:ln>
        </p:spPr>
      </p:pic>
      <p:sp>
        <p:nvSpPr>
          <p:cNvPr id="721" name="Straight Connector 15"/>
          <p:cNvSpPr/>
          <p:nvPr/>
        </p:nvSpPr>
        <p:spPr>
          <a:xfrm>
            <a:off x="762120" y="3886200"/>
            <a:ext cx="320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47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48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49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48549E-B9EA-43BC-B1FA-624EE4ACDC7B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5" descr="USAID_Logo_White_v02.png"/>
          <p:cNvPicPr/>
          <p:nvPr/>
        </p:nvPicPr>
        <p:blipFill>
          <a:blip r:embed="rId2"/>
          <a:stretch/>
        </p:blipFill>
        <p:spPr>
          <a:xfrm>
            <a:off x="685800" y="5943600"/>
            <a:ext cx="1536840" cy="457200"/>
          </a:xfrm>
          <a:prstGeom prst="rect">
            <a:avLst/>
          </a:prstGeom>
          <a:ln w="0">
            <a:noFill/>
          </a:ln>
        </p:spPr>
      </p:pic>
      <p:sp>
        <p:nvSpPr>
          <p:cNvPr id="765" name="Straight Connector 6"/>
          <p:cNvSpPr/>
          <p:nvPr/>
        </p:nvSpPr>
        <p:spPr>
          <a:xfrm>
            <a:off x="746280" y="990720"/>
            <a:ext cx="320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dt" idx="50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ftr" idx="51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sldNum" idx="52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18D102-8C32-404D-ADE9-2731C64E00F4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Placeholder 9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69320" cy="655344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13"/>
          <p:cNvSpPr/>
          <p:nvPr/>
        </p:nvSpPr>
        <p:spPr>
          <a:xfrm>
            <a:off x="762120" y="3886200"/>
            <a:ext cx="320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4" descr="USAID_Logo_White_v02.png"/>
          <p:cNvPicPr/>
          <p:nvPr/>
        </p:nvPicPr>
        <p:blipFill>
          <a:blip r:embed="rId3"/>
          <a:stretch/>
        </p:blipFill>
        <p:spPr>
          <a:xfrm>
            <a:off x="684360" y="685800"/>
            <a:ext cx="1828800" cy="544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20000"/>
              </a:srgbClr>
            </a:outerShdw>
          </a:effectLst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C528A-B19D-49A2-A7FB-FE2C37D614D5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3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4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5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A07D8-7058-4E2B-8E07-7F4EDE994D9C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 type="dt" idx="56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 type="ftr" idx="57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 type="sldNum" idx="58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648AD-2352-407F-AF7C-43417BEB105C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dt" idx="59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ftr" idx="60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sldNum" idx="61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B7C93-4F21-4506-A32D-1D74A6F32F1D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 type="dt" idx="62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 type="ftr" idx="63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 type="sldNum" idx="64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0BC3A-49B0-4B9E-8A4A-470F3B780689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65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sldNum" idx="66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BED2B9-60CE-4B18-B859-E0BD87FFBBCA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67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sldNum" idx="68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5C88BD-478B-4B9A-9336-8E3AE1ED7B86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dt" idx="69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ftr" idx="70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sldNum" idx="71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686DE-93BE-4BF9-8984-831646E74D57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 type="dt" idx="72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 type="ftr" idx="73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 type="sldNum" idx="74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A26A9F-C387-44E8-BF29-C348AE3E6335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dt" idx="75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 type="ftr" idx="76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 type="sldNum" idx="77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1F14F7-42C4-4396-B6EF-B3D48F0BD699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 type="dt" idx="78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 type="ftr" idx="79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 type="sldNum" idx="80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9A2F87-3686-4C7B-AF9C-CE9B679606D6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0c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USAID_Logo_White_v02.png"/>
          <p:cNvPicPr/>
          <p:nvPr/>
        </p:nvPicPr>
        <p:blipFill>
          <a:blip r:embed="rId2"/>
          <a:stretch/>
        </p:blipFill>
        <p:spPr>
          <a:xfrm>
            <a:off x="684360" y="685800"/>
            <a:ext cx="1828800" cy="544680"/>
          </a:xfrm>
          <a:prstGeom prst="rect">
            <a:avLst/>
          </a:prstGeom>
          <a:ln w="0">
            <a:noFill/>
          </a:ln>
        </p:spPr>
      </p:pic>
      <p:sp>
        <p:nvSpPr>
          <p:cNvPr id="89" name="Straight Connector 15"/>
          <p:cNvSpPr/>
          <p:nvPr/>
        </p:nvSpPr>
        <p:spPr>
          <a:xfrm>
            <a:off x="762120" y="3886200"/>
            <a:ext cx="320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8A9B3-0D0B-4A6C-ACE9-2515BD723E25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 type="dt" idx="81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 type="sldNum" idx="82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A7934-0B00-46F2-9787-FD8ECA42FEBC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 type="dt" idx="83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 type="sldNum" idx="84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93C404-D1FF-41F2-9D46-51DD2E76B640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0c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USAID_Logo_White_v02.png"/>
          <p:cNvPicPr/>
          <p:nvPr/>
        </p:nvPicPr>
        <p:blipFill>
          <a:blip r:embed="rId2"/>
          <a:stretch/>
        </p:blipFill>
        <p:spPr>
          <a:xfrm>
            <a:off x="685800" y="5943600"/>
            <a:ext cx="1536840" cy="45720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746280" y="990720"/>
            <a:ext cx="320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A104BF-D398-4D79-8EC9-65F59649A5BB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5E69D5-B287-4D26-B535-79CEDADD0970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1637E4-CB0A-4431-B2B9-627977F49C12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4E690-E21C-4FC6-8015-3C2EDCBDB225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269248-C878-4502-9ADC-FE7EEC6BE799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26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F4650-47FF-411F-B054-5360B833B7EA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Date Placeholder 1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Slide Number Placeholder 3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E593E-D62F-4A99-8337-EE5B645DA188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5486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900" spc="-1" strike="noStrike">
                <a:solidFill>
                  <a:srgbClr val="ffffff"/>
                </a:solidFill>
                <a:latin typeface="Gill Sans MT"/>
              </a:rPr>
              <a:t>ПРОГРАМА РЕФОРМУВАННЯ СЕКТОРУ ЮСТИЦІЇ </a:t>
            </a:r>
            <a:br>
              <a:rPr sz="2900"/>
            </a:br>
            <a:r>
              <a:rPr b="1" lang="uk-UA" sz="2900" spc="-1" strike="noStrike">
                <a:solidFill>
                  <a:srgbClr val="ffffff"/>
                </a:solidFill>
                <a:latin typeface="Gill Sans MT"/>
              </a:rPr>
              <a:t>«НОВЕ ПРАВОСУДДЯ»</a:t>
            </a:r>
            <a:endParaRPr b="0" lang="en-US" sz="29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subTitle"/>
          </p:nvPr>
        </p:nvSpPr>
        <p:spPr>
          <a:xfrm>
            <a:off x="685440" y="430956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ill Sans MT"/>
              </a:rPr>
              <a:t>Зустріч №1 </a:t>
            </a:r>
            <a:endParaRPr b="0" lang="en-US" sz="1800" spc="-1" strike="noStrike">
              <a:solidFill>
                <a:srgbClr val="635c5b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ill Sans MT"/>
              </a:rPr>
              <a:t>Дорадчої групи партнерів Програми</a:t>
            </a:r>
            <a:endParaRPr b="0" lang="en-US" sz="1800" spc="-1" strike="noStrike">
              <a:solidFill>
                <a:srgbClr val="635c5b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635c5b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ill Sans MT"/>
              </a:rPr>
              <a:t>21 квітня 2017 р</a:t>
            </a:r>
            <a:endParaRPr b="0" lang="en-US" sz="18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311" name="Footer Placeholder 1"/>
          <p:cNvSpPr/>
          <p:nvPr/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02341B-4610-409C-A6FC-326DAC8CCFDE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19040" y="-194400"/>
            <a:ext cx="7772400" cy="94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Показники 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незалежності та підзвітності </a:t>
            </a: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ENCJ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63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TextBox 1"/>
          <p:cNvSpPr/>
          <p:nvPr/>
        </p:nvSpPr>
        <p:spPr>
          <a:xfrm>
            <a:off x="304920" y="741240"/>
            <a:ext cx="8305560" cy="54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БРОБКА ДАНИХ ТА РОЗРАХУНОК РЕЗУЛЬТА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омплексні (багатовимірні) показники розділені на одновимірн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ожен одновимірний показник (кожна відповідь респондента) відповідає певній кількості балі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ожен багатовимірний показник має максимально можливий ба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озраховується середній інтегральний бал по кожному багатовимірному показни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озраховується відношення отриманого середнього інтегрального балу до максимально можливого у відсотк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Будується графік та кольорова шк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A24C44-B0D5-436F-8256-EDABD725D038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3520" y="-569880"/>
            <a:ext cx="7772400" cy="179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Показники 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незалежності та підзвітності </a:t>
            </a: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ENCJ</a:t>
            </a:r>
            <a:br>
              <a:rPr sz="2800"/>
            </a:b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Зведена діаграма по країнах ЄС 2014-2015 р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68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9" name="Рисунок 15" descr=""/>
          <p:cNvPicPr/>
          <p:nvPr/>
        </p:nvPicPr>
        <p:blipFill>
          <a:blip r:embed="rId1"/>
          <a:stretch/>
        </p:blipFill>
        <p:spPr>
          <a:xfrm>
            <a:off x="534960" y="1266840"/>
            <a:ext cx="8077320" cy="2000160"/>
          </a:xfrm>
          <a:prstGeom prst="rect">
            <a:avLst/>
          </a:prstGeom>
          <a:ln w="0">
            <a:noFill/>
          </a:ln>
        </p:spPr>
      </p:pic>
      <p:sp>
        <p:nvSpPr>
          <p:cNvPr id="1370" name="TextBox 10"/>
          <p:cNvSpPr/>
          <p:nvPr/>
        </p:nvSpPr>
        <p:spPr>
          <a:xfrm>
            <a:off x="1371600" y="32338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Arial"/>
              </a:rPr>
              <a:t>1   2   3   4   5   6   7   8   9   10  11           </a:t>
            </a:r>
            <a:r>
              <a:rPr b="0" lang="uk-UA" sz="1800" spc="-1" strike="noStrike">
                <a:solidFill>
                  <a:srgbClr val="00b050"/>
                </a:solidFill>
                <a:latin typeface="Arial"/>
              </a:rPr>
              <a:t>1   2   3    4  5   6    7   8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1" name=""/>
          <p:cNvGraphicFramePr/>
          <p:nvPr/>
        </p:nvGraphicFramePr>
        <p:xfrm>
          <a:off x="534960" y="3564000"/>
          <a:ext cx="8075520" cy="2895480"/>
        </p:xfrm>
        <a:graphic>
          <a:graphicData uri="http://schemas.openxmlformats.org/drawingml/2006/table">
            <a:tbl>
              <a:tblPr/>
              <a:tblGrid>
                <a:gridCol w="2590920"/>
                <a:gridCol w="2057400"/>
                <a:gridCol w="3427200"/>
              </a:tblGrid>
              <a:tr h="3715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ЕЗАЛЕЖ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ІДЗВІТ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</a:tr>
              <a:tr h="252396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Законодавча ос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Організаційна автономі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Фінансування судової систе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Управління суд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Рішення судд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Непереводим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Внутрішня незалеж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fd2ff">
                        <a:alpha val="35000"/>
                      </a:srgbClr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 Сприйняття громадян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 Довіра суспіль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 Сприйняття коруп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. Сприйняття незалежності кліє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fd2ff">
                        <a:alpha val="35000"/>
                      </a:srgbClr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Розподіл спр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Процедури подання скар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Періодична звіт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Відносини зі ЗМ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Зовнішня перевір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Судівська е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 Відвід та самовідві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Зовнішня діяль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.Зрозумілі процедур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>
                        <a:alpha val="47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F5C90C-561F-444B-A8F6-730A9FEDD321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33520" y="-143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Показники 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незалежності та підзвітності </a:t>
            </a: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ENCJ</a:t>
            </a:r>
            <a:br>
              <a:rPr sz="2800"/>
            </a:b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Пілотне застосування в Україні. 2017 р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75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6" name="Chart 1" descr=""/>
          <p:cNvPicPr/>
          <p:nvPr/>
        </p:nvPicPr>
        <p:blipFill>
          <a:blip r:embed="rId1"/>
          <a:stretch/>
        </p:blipFill>
        <p:spPr>
          <a:xfrm>
            <a:off x="152280" y="1182600"/>
            <a:ext cx="8839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3E7A4-EBA2-42E1-B6AC-8C767F515C70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754200" y="32508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ba0c2f"/>
                </a:solidFill>
                <a:latin typeface="Gill Sans MT"/>
              </a:rPr>
              <a:t>Програма</a:t>
            </a: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 USAID </a:t>
            </a:r>
            <a:r>
              <a:rPr b="0" lang="uk-UA" sz="2800" spc="-1" strike="noStrike">
                <a:solidFill>
                  <a:srgbClr val="ba0c2f"/>
                </a:solidFill>
                <a:latin typeface="Gill Sans MT"/>
              </a:rPr>
              <a:t>«Нове правосуддя» 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15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Diagram 4" descr=""/>
          <p:cNvPicPr/>
          <p:nvPr/>
        </p:nvPicPr>
        <p:blipFill>
          <a:blip r:embed="rId1"/>
          <a:stretch/>
        </p:blipFill>
        <p:spPr>
          <a:xfrm>
            <a:off x="324000" y="993600"/>
            <a:ext cx="858816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D854BD-DD9A-4777-9F4E-45F98B7204E9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754200" y="32508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ba0c2f"/>
                </a:solidFill>
                <a:latin typeface="Gill Sans MT"/>
              </a:rPr>
              <a:t>Програма</a:t>
            </a: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 USAID </a:t>
            </a:r>
            <a:r>
              <a:rPr b="0" lang="uk-UA" sz="2800" spc="-1" strike="noStrike">
                <a:solidFill>
                  <a:srgbClr val="ba0c2f"/>
                </a:solidFill>
                <a:latin typeface="Gill Sans MT"/>
              </a:rPr>
              <a:t>«Нове правосуддя» 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20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1" name="Group 8"/>
          <p:cNvGrpSpPr/>
          <p:nvPr/>
        </p:nvGrpSpPr>
        <p:grpSpPr>
          <a:xfrm>
            <a:off x="184320" y="1284120"/>
            <a:ext cx="4487760" cy="1963800"/>
            <a:chOff x="184320" y="1284120"/>
            <a:chExt cx="4487760" cy="1963800"/>
          </a:xfrm>
        </p:grpSpPr>
        <p:sp>
          <p:nvSpPr>
            <p:cNvPr id="1322" name="Rectangle: Rounded Corners 9"/>
            <p:cNvSpPr/>
            <p:nvPr/>
          </p:nvSpPr>
          <p:spPr>
            <a:xfrm>
              <a:off x="488880" y="1284120"/>
              <a:ext cx="3886200" cy="1963800"/>
            </a:xfrm>
            <a:prstGeom prst="roundRect">
              <a:avLst>
                <a:gd name="adj" fmla="val 10000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002f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: Rounded Corners 4"/>
            <p:cNvSpPr/>
            <p:nvPr/>
          </p:nvSpPr>
          <p:spPr>
            <a:xfrm>
              <a:off x="184320" y="1333080"/>
              <a:ext cx="4487760" cy="191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20160" bIns="201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Corbel"/>
                </a:rPr>
                <a:t>Завдання 1</a:t>
              </a:r>
              <a:r>
                <a:rPr b="1" lang="uk-UA" sz="2400" spc="-1" strike="noStrike">
                  <a:solidFill>
                    <a:srgbClr val="000000"/>
                  </a:solidFill>
                  <a:latin typeface="Corbel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Corbel"/>
                </a:rPr>
                <a:t>Зміцнення суддівської незалежності та самоврядуван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4" name="TextBox 3"/>
          <p:cNvSpPr/>
          <p:nvPr/>
        </p:nvSpPr>
        <p:spPr>
          <a:xfrm>
            <a:off x="1471680" y="4246560"/>
            <a:ext cx="6400800" cy="1543320"/>
          </a:xfrm>
          <a:prstGeom prst="rect">
            <a:avLst/>
          </a:prstGeom>
          <a:solidFill>
            <a:srgbClr val="bee2ff">
              <a:alpha val="68000"/>
            </a:srgbClr>
          </a:solidFill>
          <a:ln w="9360">
            <a:solidFill>
              <a:srgbClr val="002f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оказники незалежност</a:t>
            </a: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і та підзвітності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удови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Європейської мережі рад з питань правосуддя (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NC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Arrow: Down 5"/>
          <p:cNvSpPr/>
          <p:nvPr/>
        </p:nvSpPr>
        <p:spPr>
          <a:xfrm>
            <a:off x="2162160" y="3328920"/>
            <a:ext cx="533520" cy="623880"/>
          </a:xfrm>
          <a:prstGeom prst="downArrow">
            <a:avLst>
              <a:gd name="adj1" fmla="val 50000"/>
              <a:gd name="adj2" fmla="val 49990"/>
            </a:avLst>
          </a:prstGeom>
          <a:gradFill rotWithShape="0">
            <a:gsLst>
              <a:gs pos="0">
                <a:srgbClr val="002d7c"/>
              </a:gs>
              <a:gs pos="100000">
                <a:srgbClr val="acb5d7"/>
              </a:gs>
            </a:gsLst>
            <a:lin ang="16200000"/>
          </a:gradFill>
          <a:ln w="9360">
            <a:solidFill>
              <a:srgbClr val="002d6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Arrow: Down 19"/>
          <p:cNvSpPr/>
          <p:nvPr/>
        </p:nvSpPr>
        <p:spPr>
          <a:xfrm>
            <a:off x="6539040" y="3327480"/>
            <a:ext cx="533160" cy="623880"/>
          </a:xfrm>
          <a:prstGeom prst="downArrow">
            <a:avLst>
              <a:gd name="adj1" fmla="val 50000"/>
              <a:gd name="adj2" fmla="val 50024"/>
            </a:avLst>
          </a:prstGeom>
          <a:gradFill rotWithShape="0">
            <a:gsLst>
              <a:gs pos="0">
                <a:srgbClr val="002d7c"/>
              </a:gs>
              <a:gs pos="100000">
                <a:srgbClr val="acb5d7"/>
              </a:gs>
            </a:gsLst>
            <a:lin ang="16200000"/>
          </a:gradFill>
          <a:ln w="9360">
            <a:solidFill>
              <a:srgbClr val="002d6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Group 20"/>
          <p:cNvGrpSpPr/>
          <p:nvPr/>
        </p:nvGrpSpPr>
        <p:grpSpPr>
          <a:xfrm>
            <a:off x="4498920" y="1265400"/>
            <a:ext cx="4489560" cy="1963440"/>
            <a:chOff x="4498920" y="1265400"/>
            <a:chExt cx="4489560" cy="1963440"/>
          </a:xfrm>
        </p:grpSpPr>
        <p:sp>
          <p:nvSpPr>
            <p:cNvPr id="1328" name="Rectangle: Rounded Corners 21"/>
            <p:cNvSpPr/>
            <p:nvPr/>
          </p:nvSpPr>
          <p:spPr>
            <a:xfrm>
              <a:off x="4803480" y="1265400"/>
              <a:ext cx="3888000" cy="1963440"/>
            </a:xfrm>
            <a:prstGeom prst="roundRect">
              <a:avLst>
                <a:gd name="adj" fmla="val 10000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002f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: Rounded Corners 4"/>
            <p:cNvSpPr/>
            <p:nvPr/>
          </p:nvSpPr>
          <p:spPr>
            <a:xfrm>
              <a:off x="4498920" y="1314360"/>
              <a:ext cx="4489560" cy="19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20160" bIns="201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Corbel"/>
                </a:rPr>
                <a:t>Завдання 2</a:t>
              </a:r>
              <a:r>
                <a:rPr b="1" lang="uk-UA" sz="2400" spc="-1" strike="noStrike">
                  <a:solidFill>
                    <a:srgbClr val="000000"/>
                  </a:solidFill>
                  <a:latin typeface="Corbel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Corbel"/>
                </a:rPr>
                <a:t>Підвищення прозорості та підзвітності судової влад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1C2E7-7543-49D8-B27A-3D16FFCABD1A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790560" y="3960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Показники незалежност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і та підзвітності</a:t>
            </a: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ENCJ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: 5 базових понять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33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TextBox 3"/>
          <p:cNvSpPr/>
          <p:nvPr/>
        </p:nvSpPr>
        <p:spPr>
          <a:xfrm>
            <a:off x="434880" y="152388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залежн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сть та підзвітність судової системи це одне ціле. Підзвітність є передумовою незалежності. Незалежність судовій владі дає суспільство. Підзвітність без незалежності перетворює судову систему в державну агенці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снування формальних юридичних гарантій незалежності (о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ктивна незалежність) не є достатньою для судді, щоб бути незалежним. Фактична незалежність залежить від його поведінки та відображається в його рішеннях, що, в свою чергу впливає на сприйняття суддівської незалежності суспільством (о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ктивна незалежні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судової системи бути незалежною означає, що судова система є незалежною в цілому і кожен окремий суддя також є незалежн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підзвітності повинні виконуватись не тільки формальні вимоги підзвітності, але населення має сприймати судову владу як підзвіт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ідзвітність, як незалежність, відноситься до судової системи в цілому і до кожного окремого судд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3C7F7D-33C6-48BE-9982-FD470B7D153E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0040" y="-36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Показники незалежност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і та підзвітності</a:t>
            </a: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ENCJ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38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9" name=""/>
          <p:cNvGraphicFramePr/>
          <p:nvPr/>
        </p:nvGraphicFramePr>
        <p:xfrm>
          <a:off x="522360" y="1523880"/>
          <a:ext cx="8088120" cy="3048120"/>
        </p:xfrm>
        <a:graphic>
          <a:graphicData uri="http://schemas.openxmlformats.org/drawingml/2006/table">
            <a:tbl>
              <a:tblPr/>
              <a:tblGrid>
                <a:gridCol w="1617480"/>
                <a:gridCol w="1617840"/>
                <a:gridCol w="1617480"/>
                <a:gridCol w="1617840"/>
                <a:gridCol w="1617480"/>
              </a:tblGrid>
              <a:tr h="796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ЕЗАЛЕЖН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ІДЗВІТН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5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’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єктив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удова система в ціло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кремий судд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удова система в ціло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кремий судд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4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у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’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єктив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гальне сприйнятт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казники не розробле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31854-8F51-4292-A7A6-0C2C0A0655C3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Об</a:t>
            </a: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’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єктивні </a:t>
            </a: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показники незалежност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і</a:t>
            </a:r>
            <a:br>
              <a:rPr sz="2800"/>
            </a:b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ENCJ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43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4" name=""/>
          <p:cNvGraphicFramePr/>
          <p:nvPr/>
        </p:nvGraphicFramePr>
        <p:xfrm>
          <a:off x="490680" y="1519200"/>
          <a:ext cx="8162640" cy="4440240"/>
        </p:xfrm>
        <a:graphic>
          <a:graphicData uri="http://schemas.openxmlformats.org/drawingml/2006/table">
            <a:tbl>
              <a:tblPr/>
              <a:tblGrid>
                <a:gridCol w="4081320"/>
                <a:gridCol w="40813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удова система в ціло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кремий судд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</a:tr>
              <a:tr h="4480920">
                <a:tc>
                  <a:txBody>
                    <a:bodyPr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ві основи незалежност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рганізаційна автономія судової влади (Рада правосуддя або інший еквівалентний орга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інансув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Управління судовою системо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5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адрові рішення щодо судд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5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еможливість переведення судд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5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цедури у випадку загрози суддівській незалежност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5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нутрішня незалежні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4BF052-2309-44B4-AEEC-B5329CC643B3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Суб</a:t>
            </a: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’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єктивні </a:t>
            </a: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показники незалежност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і</a:t>
            </a:r>
            <a:br>
              <a:rPr sz="2800"/>
            </a:b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ENCJ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48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9" name=""/>
          <p:cNvGraphicFramePr/>
          <p:nvPr/>
        </p:nvGraphicFramePr>
        <p:xfrm>
          <a:off x="490680" y="1519200"/>
          <a:ext cx="8162640" cy="4745160"/>
        </p:xfrm>
        <a:graphic>
          <a:graphicData uri="http://schemas.openxmlformats.org/drawingml/2006/table">
            <a:tbl>
              <a:tblPr/>
              <a:tblGrid>
                <a:gridCol w="4081320"/>
                <a:gridCol w="40813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удова система в ціло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кремий судд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</a:tr>
              <a:tr h="4115160">
                <a:tc gridSpan="2"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9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езалежність, як вона сприймається громадянами в ціло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9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віра громадян до судової системи, в порівнянні до довіри  іншим гілкам вла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9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рупція в судовій системі, як вона сприймається громадянами в ціло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9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езалежність, як вона сприймається учасниками судових провадж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9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езалежність, як вона сприймається самими суддя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FCEB0-3C61-4F1E-B1FF-9E2BBD4ED6C6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Об</a:t>
            </a: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’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єктивні </a:t>
            </a: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показники 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підзвітності</a:t>
            </a:r>
            <a:br>
              <a:rPr sz="2800"/>
            </a:b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ENCJ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53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4" name=""/>
          <p:cNvGraphicFramePr/>
          <p:nvPr/>
        </p:nvGraphicFramePr>
        <p:xfrm>
          <a:off x="490680" y="1519200"/>
          <a:ext cx="8162640" cy="3890880"/>
        </p:xfrm>
        <a:graphic>
          <a:graphicData uri="http://schemas.openxmlformats.org/drawingml/2006/table">
            <a:tbl>
              <a:tblPr/>
              <a:tblGrid>
                <a:gridCol w="4081320"/>
                <a:gridCol w="40813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удова система в ціло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кремий судд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</a:tr>
              <a:tr h="3657960">
                <a:tc>
                  <a:txBody>
                    <a:bodyPr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озподіл спр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цедури розгляду скар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еріодична звітність судової систе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ідносини з прес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овнішня оці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6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декс суддівської е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6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илучення та самовідві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6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пустимість зайняття іншою діяльністю поза межами судової системи, інформування громадськості про наявність фінансових інтересів поза межами судової систе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6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розумілість процедур судочин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A9F23-6978-4C1F-8A5A-2EFA7FFA2832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09480" y="339120"/>
            <a:ext cx="7772400" cy="94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Показники 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незалежності та підзвітності </a:t>
            </a: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ENCJ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58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Box 1"/>
          <p:cNvSpPr/>
          <p:nvPr/>
        </p:nvSpPr>
        <p:spPr>
          <a:xfrm>
            <a:off x="609480" y="2209680"/>
            <a:ext cx="6834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ТОДИ ЗБОРУ ДА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питування широкого кола респондентів в режимі онлай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питування експер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користання даних з інших джер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3T20:02:08Z</dcterms:created>
  <dc:creator>USAID</dc:creator>
  <dc:description/>
  <dc:language>en-US</dc:language>
  <cp:lastModifiedBy>ignatchenko</cp:lastModifiedBy>
  <cp:lastPrinted>2016-09-13T10:25:31Z</cp:lastPrinted>
  <dcterms:modified xsi:type="dcterms:W3CDTF">2017-04-24T08:11:58Z</dcterms:modified>
  <cp:revision>148</cp:revision>
  <dc:subject/>
  <dc:title>PHOTO COVER OPTION TITLE GOES HERE CAN  RUN THREE LINES</dc:title>
</cp:coreProperties>
</file>